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l" sz="1862" spc="-1" strike="noStrike">
                <a:solidFill>
                  <a:srgbClr val="595959"/>
                </a:solidFill>
                <a:latin typeface="Arial"/>
              </a:defRPr>
            </a:pPr>
            <a:r>
              <a:rPr b="0" lang="el" sz="1862" spc="-1" strike="noStrike">
                <a:solidFill>
                  <a:srgbClr val="595959"/>
                </a:solidFill>
                <a:latin typeface="Arial"/>
              </a:rPr>
              <a:t>Σημαίνω Εξέλιξη </a:t>
            </a:r>
          </a:p>
        </c:rich>
      </c:tx>
      <c:overlay val="0"/>
      <c:spPr>
        <a:noFill/>
        <a:ln w="0">
          <a:noFill/>
        </a:ln>
      </c:spPr>
    </c:title>
    <c:autoTitleDeleted val="0"/>
    <c:plotArea>
      <c:lineChart>
        <c:grouping val="standard"/>
        <c:varyColors val="0"/>
        <c:ser>
          <c:idx val="0"/>
          <c:order val="0"/>
          <c:tx>
            <c:strRef>
              <c:f>label 0</c:f>
              <c:strCache>
                <c:ptCount val="1"/>
                <c:pt idx="0">
                  <c:v>Typical child</c:v>
                </c:pt>
              </c:strCache>
            </c:strRef>
          </c:tx>
          <c:spPr>
            <a:solidFill>
              <a:srgbClr val="746778"/>
            </a:solidFill>
            <a:ln cap="rnd" w="38160">
              <a:solidFill>
                <a:srgbClr val="746778"/>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0</c:v>
                </c:pt>
                <c:pt idx="1">
                  <c:v>10</c:v>
                </c:pt>
                <c:pt idx="2">
                  <c:v>15</c:v>
                </c:pt>
                <c:pt idx="3">
                  <c:v>20</c:v>
                </c:pt>
                <c:pt idx="4">
                  <c:v>25</c:v>
                </c:pt>
                <c:pt idx="5">
                  <c:v>30</c:v>
                </c:pt>
                <c:pt idx="6">
                  <c:v>35</c:v>
                </c:pt>
                <c:pt idx="7">
                  <c:v>40</c:v>
                </c:pt>
                <c:pt idx="8">
                  <c:v>45</c:v>
                </c:pt>
                <c:pt idx="9">
                  <c:v>50</c:v>
                </c:pt>
                <c:pt idx="10">
                  <c:v>55</c:v>
                </c:pt>
                <c:pt idx="11">
                  <c:v>60</c:v>
                </c:pt>
              </c:strCache>
            </c:strRef>
          </c:cat>
          <c:val>
            <c:numRef>
              <c:f>0</c:f>
              <c:numCache>
                <c:formatCode>General</c:formatCode>
                <c:ptCount val="12"/>
                <c:pt idx="2">
                  <c:v>1</c:v>
                </c:pt>
                <c:pt idx="3">
                  <c:v>2</c:v>
                </c:pt>
                <c:pt idx="4">
                  <c:v>4</c:v>
                </c:pt>
              </c:numCache>
            </c:numRef>
          </c:val>
          <c:smooth val="0"/>
        </c:ser>
        <c:ser>
          <c:idx val="1"/>
          <c:order val="1"/>
          <c:tx>
            <c:strRef>
              <c:f>label 1</c:f>
              <c:strCache>
                <c:ptCount val="1"/>
                <c:pt idx="0">
                  <c:v>IDD child</c:v>
                </c:pt>
              </c:strCache>
            </c:strRef>
          </c:tx>
          <c:spPr>
            <a:solidFill>
              <a:srgbClr val="916454"/>
            </a:solidFill>
            <a:ln cap="rnd" w="34920">
              <a:solidFill>
                <a:srgbClr val="916454"/>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0</c:v>
                </c:pt>
                <c:pt idx="1">
                  <c:v>10</c:v>
                </c:pt>
                <c:pt idx="2">
                  <c:v>15</c:v>
                </c:pt>
                <c:pt idx="3">
                  <c:v>20</c:v>
                </c:pt>
                <c:pt idx="4">
                  <c:v>25</c:v>
                </c:pt>
                <c:pt idx="5">
                  <c:v>30</c:v>
                </c:pt>
                <c:pt idx="6">
                  <c:v>35</c:v>
                </c:pt>
                <c:pt idx="7">
                  <c:v>40</c:v>
                </c:pt>
                <c:pt idx="8">
                  <c:v>45</c:v>
                </c:pt>
                <c:pt idx="9">
                  <c:v>50</c:v>
                </c:pt>
                <c:pt idx="10">
                  <c:v>55</c:v>
                </c:pt>
                <c:pt idx="11">
                  <c:v>60</c:v>
                </c:pt>
              </c:strCache>
            </c:strRef>
          </c:cat>
          <c:val>
            <c:numRef>
              <c:f>1</c:f>
              <c:numCache>
                <c:formatCode>General</c:formatCode>
                <c:ptCount val="12"/>
                <c:pt idx="6">
                  <c:v>1</c:v>
                </c:pt>
                <c:pt idx="7">
                  <c:v>1.25</c:v>
                </c:pt>
                <c:pt idx="8">
                  <c:v>1.5</c:v>
                </c:pt>
                <c:pt idx="9">
                  <c:v>2</c:v>
                </c:pt>
                <c:pt idx="10">
                  <c:v>3</c:v>
                </c:pt>
                <c:pt idx="11">
                  <c:v>4</c:v>
                </c:pt>
              </c:numCache>
            </c:numRef>
          </c:val>
          <c:smooth val="0"/>
        </c:ser>
        <c:hiLowLines>
          <c:spPr>
            <a:ln w="0">
              <a:noFill/>
            </a:ln>
          </c:spPr>
        </c:hiLowLines>
        <c:marker val="0"/>
        <c:axId val="74915848"/>
        <c:axId val="52410114"/>
      </c:lineChart>
      <c:catAx>
        <c:axId val="74915848"/>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Arial"/>
              </a:defRPr>
            </a:pPr>
          </a:p>
        </c:txPr>
        <c:crossAx val="52410114"/>
        <c:crosses val="autoZero"/>
        <c:auto val="1"/>
        <c:lblAlgn val="ctr"/>
        <c:lblOffset val="100"/>
        <c:noMultiLvlLbl val="0"/>
      </c:catAx>
      <c:valAx>
        <c:axId val="52410114"/>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9360">
            <a:noFill/>
          </a:ln>
        </c:spPr>
        <c:txPr>
          <a:bodyPr/>
          <a:lstStyle/>
          <a:p>
            <a:pPr>
              <a:defRPr b="0" sz="1197" spc="-1" strike="noStrike">
                <a:solidFill>
                  <a:srgbClr val="595959"/>
                </a:solidFill>
                <a:latin typeface="Arial"/>
              </a:defRPr>
            </a:pPr>
          </a:p>
        </c:txPr>
        <c:crossAx val="7491584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Arial"/>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IDD</c:v>
                </c:pt>
              </c:strCache>
            </c:strRef>
          </c:tx>
          <c:spPr>
            <a:solidFill>
              <a:srgbClr val="908193"/>
            </a:solidFill>
            <a:ln cap="rnd" w="28440">
              <a:solidFill>
                <a:srgbClr val="908193"/>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Relatives sentenses</c:v>
                </c:pt>
                <c:pt idx="1">
                  <c:v>Sentence coordination</c:v>
                </c:pt>
                <c:pt idx="2">
                  <c:v>Passive sentences</c:v>
                </c:pt>
                <c:pt idx="3">
                  <c:v>Negative sentences</c:v>
                </c:pt>
                <c:pt idx="4">
                  <c:v>Pronouns</c:v>
                </c:pt>
                <c:pt idx="5">
                  <c:v>Sentence subordination</c:v>
                </c:pt>
                <c:pt idx="6">
                  <c:v>Temporal flexions</c:v>
                </c:pt>
                <c:pt idx="7">
                  <c:v>Articles</c:v>
                </c:pt>
              </c:strCache>
            </c:strRef>
          </c:cat>
          <c:val>
            <c:numRef>
              <c:f>0</c:f>
              <c:numCache>
                <c:formatCode>General</c:formatCode>
                <c:ptCount val="8"/>
                <c:pt idx="0">
                  <c:v>0.72</c:v>
                </c:pt>
                <c:pt idx="1">
                  <c:v>0.61</c:v>
                </c:pt>
                <c:pt idx="2">
                  <c:v>0.58</c:v>
                </c:pt>
                <c:pt idx="3">
                  <c:v>0.48</c:v>
                </c:pt>
                <c:pt idx="4">
                  <c:v>0.48</c:v>
                </c:pt>
                <c:pt idx="5">
                  <c:v>0.44</c:v>
                </c:pt>
                <c:pt idx="6">
                  <c:v>0.42</c:v>
                </c:pt>
                <c:pt idx="7">
                  <c:v>0.36</c:v>
                </c:pt>
              </c:numCache>
            </c:numRef>
          </c:val>
          <c:smooth val="0"/>
        </c:ser>
        <c:ser>
          <c:idx val="1"/>
          <c:order val="1"/>
          <c:tx>
            <c:strRef>
              <c:f>label 1</c:f>
              <c:strCache>
                <c:ptCount val="1"/>
                <c:pt idx="0">
                  <c:v>Typical child</c:v>
                </c:pt>
              </c:strCache>
            </c:strRef>
          </c:tx>
          <c:spPr>
            <a:solidFill>
              <a:srgbClr val="916454"/>
            </a:solidFill>
            <a:ln cap="rnd" w="28440">
              <a:solidFill>
                <a:srgbClr val="916454"/>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Relatives sentenses</c:v>
                </c:pt>
                <c:pt idx="1">
                  <c:v>Sentence coordination</c:v>
                </c:pt>
                <c:pt idx="2">
                  <c:v>Passive sentences</c:v>
                </c:pt>
                <c:pt idx="3">
                  <c:v>Negative sentences</c:v>
                </c:pt>
                <c:pt idx="4">
                  <c:v>Pronouns</c:v>
                </c:pt>
                <c:pt idx="5">
                  <c:v>Sentence subordination</c:v>
                </c:pt>
                <c:pt idx="6">
                  <c:v>Temporal flexions</c:v>
                </c:pt>
                <c:pt idx="7">
                  <c:v>Articles</c:v>
                </c:pt>
              </c:strCache>
            </c:strRef>
          </c:cat>
          <c:val>
            <c:numRef>
              <c:f>1</c:f>
              <c:numCache>
                <c:formatCode>General</c:formatCode>
                <c:ptCount val="8"/>
                <c:pt idx="0">
                  <c:v>0.82</c:v>
                </c:pt>
                <c:pt idx="1">
                  <c:v>0.79</c:v>
                </c:pt>
                <c:pt idx="2">
                  <c:v>0.69</c:v>
                </c:pt>
                <c:pt idx="3">
                  <c:v>0.67</c:v>
                </c:pt>
                <c:pt idx="4">
                  <c:v>0.62</c:v>
                </c:pt>
                <c:pt idx="5">
                  <c:v>0.61</c:v>
                </c:pt>
                <c:pt idx="6">
                  <c:v>0.48</c:v>
                </c:pt>
                <c:pt idx="7">
                  <c:v>0.47</c:v>
                </c:pt>
              </c:numCache>
            </c:numRef>
          </c:val>
          <c:smooth val="0"/>
        </c:ser>
        <c:hiLowLines>
          <c:spPr>
            <a:ln w="0">
              <a:noFill/>
            </a:ln>
          </c:spPr>
        </c:hiLowLines>
        <c:marker val="0"/>
        <c:axId val="77273467"/>
        <c:axId val="77780875"/>
      </c:lineChart>
      <c:catAx>
        <c:axId val="7727346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Arial"/>
              </a:defRPr>
            </a:pPr>
          </a:p>
        </c:txPr>
        <c:crossAx val="77780875"/>
        <c:crosses val="autoZero"/>
        <c:auto val="1"/>
        <c:lblAlgn val="ctr"/>
        <c:lblOffset val="100"/>
        <c:noMultiLvlLbl val="0"/>
      </c:catAx>
      <c:valAx>
        <c:axId val="77780875"/>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9360">
            <a:noFill/>
          </a:ln>
        </c:spPr>
        <c:txPr>
          <a:bodyPr/>
          <a:lstStyle/>
          <a:p>
            <a:pPr>
              <a:defRPr b="0" sz="1197" spc="-1" strike="noStrike">
                <a:solidFill>
                  <a:srgbClr val="595959"/>
                </a:solidFill>
                <a:latin typeface="Arial"/>
              </a:defRPr>
            </a:pPr>
          </a:p>
        </c:txPr>
        <c:crossAx val="77273467"/>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Arial"/>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3">
  <dgm:title val=""/>
  <dgm:desc val=""/>
  <dgm:catLst>
    <dgm:cat type="accent1" pri="11300"/>
  </dgm:catLst>
  <dgm:styleLbl name="node0">
    <dgm:fillClrLst meth="repeat">
      <a:schemeClr val="accent1">
        <a:shade val="80000"/>
      </a:schemeClr>
    </dgm:fillClrLst>
    <dgm:linClrLst meth="repeat">
      <a:schemeClr val="lt1"/>
    </dgm:linClrLst>
    <dgm:effectClrLst/>
    <dgm:txLinClrLst/>
    <dgm:txFillClrLst/>
    <dgm:txEffectClrLst/>
  </dgm:styleLbl>
  <dgm:styleLbl name="alignNode1">
    <dgm:fillClrLst>
      <a:schemeClr val="accent1">
        <a:shade val="80000"/>
      </a:schemeClr>
      <a:schemeClr val="accent1">
        <a:tint val="70000"/>
      </a:schemeClr>
    </dgm:fillClrLst>
    <dgm:linClrLst>
      <a:schemeClr val="accent1">
        <a:shade val="80000"/>
      </a:schemeClr>
      <a:schemeClr val="accent1">
        <a:tint val="70000"/>
      </a:schemeClr>
    </dgm:linClrLst>
    <dgm:effectClrLst/>
    <dgm:txLinClrLst/>
    <dgm:txFillClrLst/>
    <dgm:txEffectClrLst/>
  </dgm:styleLbl>
  <dgm:styleLbl name="node1">
    <dgm:fillClrLst>
      <a:schemeClr val="accent1">
        <a:shade val="80000"/>
      </a:schemeClr>
      <a:schemeClr val="accent1">
        <a:tint val="70000"/>
      </a:schemeClr>
    </dgm:fillClrLst>
    <dgm:linClrLst meth="repeat">
      <a:schemeClr val="lt1"/>
    </dgm:linClrLst>
    <dgm:effectClrLst/>
    <dgm:txLinClrLst/>
    <dgm:txFillClrLst/>
    <dgm:txEffectClrLst/>
  </dgm:styleLbl>
  <dgm:styleLbl name="lnNode1">
    <dgm:fillClrLst>
      <a:schemeClr val="accent1">
        <a:shade val="80000"/>
      </a:schemeClr>
      <a:schemeClr val="accent1">
        <a:tint val="70000"/>
      </a:schemeClr>
    </dgm:fillClrLst>
    <dgm:linClrLst meth="repeat">
      <a:schemeClr val="lt1"/>
    </dgm:linClrLst>
    <dgm:effectClrLst/>
    <dgm:txLinClrLst/>
    <dgm:txFillClrLst/>
    <dgm:txEffectClrLst/>
  </dgm:styleLbl>
  <dgm:styleLbl name="vennNode1">
    <dgm:fillClrLst>
      <a:schemeClr val="accent1">
        <a:shade val="80000"/>
        <a:alpha val="50000"/>
      </a:schemeClr>
      <a:schemeClr val="accent1">
        <a:tint val="70000"/>
        <a:alpha val="50000"/>
      </a:schemeClr>
    </dgm:fillClrLst>
    <dgm:linClrLst meth="repeat">
      <a:schemeClr val="lt1"/>
    </dgm:linClrLst>
    <dgm:effectClrLst/>
    <dgm:txLinClrLst/>
    <dgm:txFillClrLst/>
    <dgm:txEffectClrLst/>
  </dgm:styleLbl>
  <dgm:styleLbl name="node2">
    <dgm:fillClrLst>
      <a:schemeClr val="accent1">
        <a:tint val="99000"/>
      </a:schemeClr>
    </dgm:fillClrLst>
    <dgm:linClrLst meth="repeat">
      <a:schemeClr val="lt1"/>
    </dgm:linClrLst>
    <dgm:effectClrLst/>
    <dgm:txLinClrLst/>
    <dgm:txFillClrLst/>
    <dgm:txEffectClrLst/>
  </dgm:styleLbl>
  <dgm:styleLbl name="node3">
    <dgm:fillClrLst>
      <a:schemeClr val="accent1">
        <a:tint val="80000"/>
      </a:schemeClr>
    </dgm:fillClrLst>
    <dgm:linClrLst meth="repeat">
      <a:schemeClr val="lt1"/>
    </dgm:linClrLst>
    <dgm:effectClrLst/>
    <dgm:txLinClrLst/>
    <dgm:txFillClrLst/>
    <dgm:txEffectClrLst/>
  </dgm:styleLbl>
  <dgm:styleLbl name="node4">
    <dgm:fillClrLst>
      <a:schemeClr val="accent1">
        <a:tint val="70000"/>
      </a:schemeClr>
    </dgm:fillClrLst>
    <dgm:linClrLst meth="repeat">
      <a:schemeClr val="lt1"/>
    </dgm:linClrLst>
    <dgm:effectClrLst/>
    <dgm:txLinClrLst/>
    <dgm:txFillClrLst/>
    <dgm:txEffectClrLst/>
  </dgm:styleLbl>
  <dgm:styleLbl name="f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dgm:txEffectClrLst/>
  </dgm:styleLbl>
  <dgm:styleLbl name="fg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lt1"/>
    </dgm:txFillClrLst>
    <dgm:txEffectClrLst/>
  </dgm:styleLbl>
  <dgm:styleLbl name="bg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lt1"/>
    </dgm:txFillClrLst>
    <dgm:txEffectClrLst/>
  </dgm:styleLbl>
  <dgm:styleLbl name="sibTrans1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accent1">
        <a:shade val="80000"/>
      </a:schemeClr>
    </dgm:fillClrLst>
    <dgm:linClrLst meth="repeat">
      <a:schemeClr val="lt1"/>
    </dgm:linClrLst>
    <dgm:effectClrLst/>
    <dgm:txLinClrLst/>
    <dgm:txFillClrLst/>
    <dgm:txEffectClrLst/>
  </dgm:styleLbl>
  <dgm:styleLbl name="asst1">
    <dgm:fillClrLst meth="repeat">
      <a:schemeClr val="accent1">
        <a:shade val="80000"/>
      </a:schemeClr>
    </dgm:fillClrLst>
    <dgm:linClrLst meth="repeat">
      <a:schemeClr val="lt1"/>
    </dgm:linClrLst>
    <dgm:effectClrLst/>
    <dgm:txLinClrLst/>
    <dgm:txFillClrLst/>
    <dgm:txEffectClrLst/>
  </dgm:styleLbl>
  <dgm:styleLbl name="asst2">
    <dgm:fillClrLst>
      <a:schemeClr val="accent1">
        <a:tint val="99000"/>
      </a:schemeClr>
    </dgm:fillClrLst>
    <dgm:linClrLst meth="repeat">
      <a:schemeClr val="lt1"/>
    </dgm:linClrLst>
    <dgm:effectClrLst/>
    <dgm:txLinClrLst/>
    <dgm:txFillClrLst/>
    <dgm:txEffectClrLst/>
  </dgm:styleLbl>
  <dgm:styleLbl name="asst3">
    <dgm:fillClrLst>
      <a:schemeClr val="accent1">
        <a:tint val="80000"/>
      </a:schemeClr>
    </dgm:fillClrLst>
    <dgm:linClrLst meth="repeat">
      <a:schemeClr val="lt1"/>
    </dgm:linClrLst>
    <dgm:effectClrLst/>
    <dgm:txLinClrLst/>
    <dgm:txFillClrLst/>
    <dgm:txEffectClrLst/>
  </dgm:styleLbl>
  <dgm:styleLbl name="asst4">
    <dgm:fillClrLst>
      <a:schemeClr val="accent1">
        <a:tint val="70000"/>
      </a:schemeClr>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a:tint val="90000"/>
      </a:schemeClr>
    </dgm:fillClrLst>
    <dgm:linClrLst meth="repeat">
      <a:schemeClr val="accent1">
        <a:tint val="90000"/>
      </a:schemeClr>
    </dgm:linClrLst>
    <dgm:effectClrLst/>
    <dgm:txLinClrLst/>
    <dgm:txFillClrLst/>
    <dgm:txEffectClrLst/>
  </dgm:styleLbl>
  <dgm:styleLbl name="parChTrans2D3">
    <dgm:fillClrLst meth="repeat">
      <a:schemeClr val="accent1">
        <a:tint val="70000"/>
      </a:schemeClr>
    </dgm:fillClrLst>
    <dgm:linClrLst meth="repeat">
      <a:schemeClr val="accent1">
        <a:tint val="70000"/>
      </a:schemeClr>
    </dgm:linClrLst>
    <dgm:effectClrLst/>
    <dgm:txLinClrLst/>
    <dgm:txFillClrLst/>
    <dgm:txEffectClrLst/>
  </dgm:styleLbl>
  <dgm:styleLbl name="parChTrans2D4">
    <dgm:fillClrLst meth="repeat">
      <a:schemeClr val="accent1">
        <a:tint val="50000"/>
      </a:schemeClr>
    </dgm:fillClrLst>
    <dgm:linClrLst meth="repeat">
      <a:schemeClr val="accent1">
        <a:tint val="50000"/>
      </a:schemeClr>
    </dgm:linClrLst>
    <dgm:effectClrLst/>
    <dgm:txLinClrLst/>
    <dgm:txFillClrLst meth="repeat">
      <a:schemeClr val="lt1"/>
    </dgm:txFillClrLst>
    <dgm:txEffectClrLst/>
  </dgm:styleLbl>
  <dgm:styleLbl name="parChTrans1D1">
    <dgm:fillClrLst meth="repeat">
      <a:schemeClr val="accent1">
        <a:shade val="80000"/>
      </a:schemeClr>
    </dgm:fillClrLst>
    <dgm:linClrLst meth="repeat">
      <a:schemeClr val="accent1">
        <a:shade val="80000"/>
      </a:schemeClr>
    </dgm:linClrLst>
    <dgm:effectClrLst/>
    <dgm:txLinClrLst/>
    <dgm:txFillClrLst meth="repeat">
      <a:schemeClr val="tx1"/>
    </dgm:txFillClrLst>
    <dgm:txEffectClrLst/>
  </dgm:styleLbl>
  <dgm:styleLbl name="parChTrans1D2">
    <dgm:fillClrLst meth="repeat">
      <a:schemeClr val="accent1">
        <a:tint val="99000"/>
      </a:schemeClr>
    </dgm:fillClrLst>
    <dgm:linClrLst meth="repeat">
      <a:schemeClr val="accent1">
        <a:tint val="99000"/>
      </a:schemeClr>
    </dgm:linClrLst>
    <dgm:effectClrLst/>
    <dgm:txLinClrLst/>
    <dgm:txFillClrLst meth="repeat">
      <a:schemeClr val="tx1"/>
    </dgm:txFillClrLst>
    <dgm:txEffectClrLst/>
  </dgm:styleLbl>
  <dgm:styleLbl name="parChTrans1D3">
    <dgm:fillClrLst meth="repeat">
      <a:schemeClr val="accent1">
        <a:tint val="80000"/>
      </a:schemeClr>
    </dgm:fillClrLst>
    <dgm:linClrLst meth="repeat">
      <a:schemeClr val="accent1">
        <a:tint val="80000"/>
      </a:schemeClr>
    </dgm:linClrLst>
    <dgm:effectClrLst/>
    <dgm:txLinClrLst/>
    <dgm:txFillClrLst meth="repeat">
      <a:schemeClr val="tx1"/>
    </dgm:txFillClrLst>
    <dgm:txEffectClrLst/>
  </dgm:styleLbl>
  <dgm:styleLbl name="parChTrans1D4">
    <dgm:fillClrLst meth="repeat">
      <a:schemeClr val="accent1">
        <a:tint val="70000"/>
      </a:schemeClr>
    </dgm:fillClrLst>
    <dgm:linClrLst meth="repeat">
      <a:schemeClr val="accent1">
        <a:tint val="70000"/>
      </a:schemeClr>
    </dgm:linClrLst>
    <dgm:effectClrLst/>
    <dgm:txLinClrLst/>
    <dgm:txFillClrLst meth="repeat">
      <a:schemeClr val="tx1"/>
    </dgm:txFillClrLst>
    <dgm:txEffectClrLst/>
  </dgm:styleLbl>
  <dgm:styleLbl name="f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conF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align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solidFgAcc1">
    <dgm:fillClrLst meth="repeat">
      <a:schemeClr val="lt1"/>
    </dgm:fillClrLst>
    <dgm:linClrLst>
      <a:schemeClr val="accent1">
        <a:shade val="80000"/>
      </a:schemeClr>
      <a:schemeClr val="accent1">
        <a:tint val="70000"/>
      </a:schemeClr>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lt1"/>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a:shade val="8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a:tint val="99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a:tint val="8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a:tint val="70000"/>
      </a:schemeClr>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1">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E6952977-11B1-0C42-8A56-54DEFF63867E}" type="doc">
      <dgm:prSet loTypeId="urn:microsoft.com/office/officeart/2005/8/layout/list1" loCatId="" qsTypeId="urn:microsoft.com/office/officeart/2005/8/quickstyle/simple1" qsCatId="simple" csTypeId="urn:microsoft.com/office/officeart/2005/8/colors/accent1_2" csCatId="accent1" phldr="1"/>
      <dgm:spPr/>
      <dgm:t>
        <a:bodyPr/>
        <a:lstStyle/>
        <a:p>
          <a:endParaRPr lang="fr-FR"/>
        </a:p>
      </dgm:t>
    </dgm:pt>
    <dgm:pt modelId="{84730677-D39A-EC4F-ADFB-6547283C60EB}">
      <dgm:prSet phldrT="[Texte]"/>
      <dgm:spPr/>
      <dgm:t>
        <a:bodyPr/>
        <a:lstStyle/>
        <a:p>
          <a:r>
            <a:rPr lang="el" err="1"/>
            <a:t>Σειρά </a:t>
          </a:r>
          <a:endParaRPr lang="fr-FR"/>
        </a:p>
      </dgm:t>
    </dgm:pt>
    <dgm:pt modelId="{E55006AB-BA0B-344C-9062-DB668BB9EAFF}" type="parTrans" cxnId="{46527E01-4F36-6A40-9B65-D37706BE3408}">
      <dgm:prSet/>
      <dgm:spPr/>
      <dgm:t>
        <a:bodyPr/>
        <a:lstStyle/>
        <a:p>
          <a:endParaRPr lang="fr-FR"/>
        </a:p>
      </dgm:t>
    </dgm:pt>
    <dgm:pt modelId="{AFC65A4E-0156-B646-A254-7A1078AE73DB}" type="sibTrans" cxnId="{46527E01-4F36-6A40-9B65-D37706BE3408}">
      <dgm:prSet/>
      <dgm:spPr/>
      <dgm:t>
        <a:bodyPr/>
        <a:lstStyle/>
        <a:p>
          <a:endParaRPr lang="fr-FR"/>
        </a:p>
      </dgm:t>
    </dgm:pt>
    <dgm:pt modelId="{F5DDC28B-9BCB-9247-A544-499A4BFCCC73}">
      <dgm:prSet phldrT="[Texte]"/>
      <dgm:spPr/>
      <dgm:t>
        <a:bodyPr/>
        <a:lstStyle/>
        <a:p>
          <a:r>
            <a:rPr lang="el" err="1"/>
            <a:t>Εκφραση</a:t>
          </a:r>
          <a:r>
            <a:rPr lang="el"/>
            <a:t> </a:t>
          </a:r>
          <a:r>
            <a:rPr lang="el" err="1"/>
            <a:t>μήκος </a:t>
          </a:r>
          <a:r>
            <a:rPr lang="el"/>
            <a:t>και </a:t>
          </a:r>
          <a:r>
            <a:rPr lang="el" err="1"/>
            <a:t>συντακτικό</a:t>
          </a:r>
          <a:r>
            <a:rPr lang="el"/>
            <a:t> </a:t>
          </a:r>
          <a:r>
            <a:rPr lang="el" err="1"/>
            <a:t>περίπλοκο</a:t>
          </a:r>
          <a:endParaRPr lang="fr-FR"/>
        </a:p>
      </dgm:t>
    </dgm:pt>
    <dgm:pt modelId="{EBD46EED-13A1-B54D-970C-6716F8087E6E}" type="parTrans" cxnId="{64079C9A-2EFF-944C-8289-1D417AF8BDB4}">
      <dgm:prSet/>
      <dgm:spPr/>
      <dgm:t>
        <a:bodyPr/>
        <a:lstStyle/>
        <a:p>
          <a:endParaRPr lang="fr-FR"/>
        </a:p>
      </dgm:t>
    </dgm:pt>
    <dgm:pt modelId="{DC883DE7-DDA1-464C-9A1D-073C00BCE8D1}" type="sibTrans" cxnId="{64079C9A-2EFF-944C-8289-1D417AF8BDB4}">
      <dgm:prSet/>
      <dgm:spPr/>
      <dgm:t>
        <a:bodyPr/>
        <a:lstStyle/>
        <a:p>
          <a:endParaRPr lang="fr-FR"/>
        </a:p>
      </dgm:t>
    </dgm:pt>
    <dgm:pt modelId="{53FFFA87-1FBB-6045-94ED-53EC98E68629}">
      <dgm:prSet phldrT="[Texte]"/>
      <dgm:spPr/>
      <dgm:t>
        <a:bodyPr/>
        <a:lstStyle/>
        <a:p>
          <a:r>
            <a:rPr lang="el"/>
            <a:t>Γραμματική </a:t>
          </a:r>
          <a:r>
            <a:rPr lang="el" err="1"/>
            <a:t>μορφολογία</a:t>
          </a:r>
          <a:endParaRPr lang="fr-FR"/>
        </a:p>
      </dgm:t>
    </dgm:pt>
    <dgm:pt modelId="{1A17D14C-94C9-5F4F-9E79-BEE70B0D95F4}" type="parTrans" cxnId="{B51B3EBF-A51B-5546-A403-A4E2E9726DE9}">
      <dgm:prSet/>
      <dgm:spPr/>
      <dgm:t>
        <a:bodyPr/>
        <a:lstStyle/>
        <a:p>
          <a:endParaRPr lang="fr-FR"/>
        </a:p>
      </dgm:t>
    </dgm:pt>
    <dgm:pt modelId="{2753A70D-9EDA-6646-9DA9-D463269E4B68}" type="sibTrans" cxnId="{B51B3EBF-A51B-5546-A403-A4E2E9726DE9}">
      <dgm:prSet/>
      <dgm:spPr/>
      <dgm:t>
        <a:bodyPr/>
        <a:lstStyle/>
        <a:p>
          <a:endParaRPr lang="fr-FR"/>
        </a:p>
      </dgm:t>
    </dgm:pt>
    <dgm:pt modelId="{5990E373-BF01-3544-98D3-F3BAA8D634F4}">
      <dgm:prSet/>
      <dgm:spPr/>
      <dgm:t>
        <a:bodyPr/>
        <a:lstStyle/>
        <a:p>
          <a:r>
            <a:rPr lang="el"/>
            <a:t>Δεν είναι </a:t>
          </a:r>
          <a:r>
            <a:rPr lang="el" err="1"/>
            <a:t>ιδιαίτερο</a:t>
          </a:r>
          <a:r>
            <a:rPr lang="el"/>
            <a:t> </a:t>
          </a:r>
          <a:r>
            <a:rPr lang="el" err="1"/>
            <a:t>δυσκολία </a:t>
          </a:r>
          <a:r>
            <a:rPr lang="el"/>
            <a:t>στο IDD</a:t>
          </a:r>
        </a:p>
      </dgm:t>
    </dgm:pt>
    <dgm:pt modelId="{57954CCE-29BE-2A4A-80AB-1FD6A2D404F0}" type="parTrans" cxnId="{8666558E-CA4D-5847-9984-D4D30B065588}">
      <dgm:prSet/>
      <dgm:spPr/>
      <dgm:t>
        <a:bodyPr/>
        <a:lstStyle/>
        <a:p>
          <a:endParaRPr lang="fr-FR"/>
        </a:p>
      </dgm:t>
    </dgm:pt>
    <dgm:pt modelId="{28CB6495-FE60-CC4D-9131-B616A2FFE074}" type="sibTrans" cxnId="{8666558E-CA4D-5847-9984-D4D30B065588}">
      <dgm:prSet/>
      <dgm:spPr/>
      <dgm:t>
        <a:bodyPr/>
        <a:lstStyle/>
        <a:p>
          <a:endParaRPr lang="fr-FR"/>
        </a:p>
      </dgm:t>
    </dgm:pt>
    <dgm:pt modelId="{0BFB138F-9BAE-1E44-8AA3-0CD424FAA81A}">
      <dgm:prSet/>
      <dgm:spPr/>
      <dgm:t>
        <a:bodyPr/>
        <a:lstStyle/>
        <a:p>
          <a:r>
            <a:rPr lang="el"/>
            <a:t>Διαδικασία </a:t>
          </a:r>
          <a:r>
            <a:rPr lang="el" err="1"/>
            <a:t>απόκτησης</a:t>
          </a:r>
          <a:r>
            <a:rPr lang="el"/>
            <a:t> </a:t>
          </a:r>
          <a:r>
            <a:rPr lang="el" err="1"/>
            <a:t>θες</a:t>
          </a:r>
          <a:r>
            <a:rPr lang="el"/>
            <a:t> </a:t>
          </a:r>
          <a:r>
            <a:rPr lang="el" err="1"/>
            <a:t>κανόνες</a:t>
          </a:r>
          <a:r>
            <a:rPr lang="el"/>
            <a:t> </a:t>
          </a:r>
          <a:r>
            <a:rPr lang="el" err="1"/>
            <a:t>παρόμοιο </a:t>
          </a:r>
          <a:r>
            <a:rPr lang="el"/>
            <a:t>με </a:t>
          </a:r>
          <a:r>
            <a:rPr lang="el" err="1"/>
            <a:t>αυτό</a:t>
          </a:r>
          <a:r>
            <a:rPr lang="el"/>
            <a:t> </a:t>
          </a:r>
          <a:r>
            <a:rPr lang="el" err="1"/>
            <a:t>παρατηρείται </a:t>
          </a:r>
          <a:r>
            <a:rPr lang="el"/>
            <a:t>σε </a:t>
          </a:r>
          <a:r>
            <a:rPr lang="el" err="1"/>
            <a:t>τυπικό</a:t>
          </a:r>
          <a:r>
            <a:rPr lang="el"/>
            <a:t> </a:t>
          </a:r>
          <a:r>
            <a:rPr lang="el" err="1"/>
            <a:t>παιδιά</a:t>
          </a:r>
          <a:r>
            <a:rPr lang="el"/>
            <a:t> </a:t>
          </a:r>
          <a:r>
            <a:rPr lang="el" err="1"/>
            <a:t>από </a:t>
          </a:r>
          <a:r>
            <a:rPr lang="el"/>
            <a:t>το στάδιο των πρώτων </a:t>
          </a:r>
          <a:r>
            <a:rPr lang="el" err="1"/>
            <a:t>εκφωνήσεων</a:t>
          </a:r>
          <a:endParaRPr lang="fr-FR"/>
        </a:p>
      </dgm:t>
    </dgm:pt>
    <dgm:pt modelId="{3A48F0F5-DB8B-6247-BFE9-13D38B8A7D8A}" type="parTrans" cxnId="{C46F9148-FC84-A54F-B677-9CBDCC2C4F64}">
      <dgm:prSet/>
      <dgm:spPr/>
      <dgm:t>
        <a:bodyPr/>
        <a:lstStyle/>
        <a:p>
          <a:endParaRPr lang="fr-FR"/>
        </a:p>
      </dgm:t>
    </dgm:pt>
    <dgm:pt modelId="{4F709AD4-C631-134D-A4BC-33FB44E6F719}" type="sibTrans" cxnId="{C46F9148-FC84-A54F-B677-9CBDCC2C4F64}">
      <dgm:prSet/>
      <dgm:spPr/>
      <dgm:t>
        <a:bodyPr/>
        <a:lstStyle/>
        <a:p>
          <a:endParaRPr lang="fr-FR"/>
        </a:p>
      </dgm:t>
    </dgm:pt>
    <dgm:pt modelId="{3C9A3DE8-244D-EC4C-B2AD-6799F02EC81B}">
      <dgm:prSet phldrT="[Texte]"/>
      <dgm:spPr/>
      <dgm:t>
        <a:bodyPr/>
        <a:lstStyle/>
        <a:p>
          <a:r>
            <a:rPr lang="el" err="1"/>
            <a:t>Σταθερά</a:t>
          </a:r>
          <a:r>
            <a:rPr lang="el"/>
            <a:t> </a:t>
          </a:r>
          <a:r>
            <a:rPr lang="el" err="1"/>
            <a:t>αύξηση </a:t>
          </a:r>
          <a:r>
            <a:rPr lang="el"/>
            <a:t>της </a:t>
          </a:r>
          <a:r>
            <a:rPr lang="el" err="1"/>
            <a:t>διάρκειας </a:t>
          </a:r>
          <a:r>
            <a:rPr lang="el"/>
            <a:t>των </a:t>
          </a:r>
          <a:r>
            <a:rPr lang="el" err="1"/>
            <a:t>δηλώσεων </a:t>
          </a:r>
          <a:r>
            <a:rPr lang="el"/>
            <a:t>έως την </a:t>
          </a:r>
          <a:r>
            <a:rPr lang="el" err="1"/>
            <a:t>ηλικία </a:t>
          </a:r>
          <a:r>
            <a:rPr lang="el"/>
            <a:t>των 12-14 ετών, </a:t>
          </a:r>
          <a:r>
            <a:rPr lang="el" err="1"/>
            <a:t>ακολουθούμενη </a:t>
          </a:r>
          <a:r>
            <a:rPr lang="el"/>
            <a:t>από </a:t>
          </a:r>
          <a:r>
            <a:rPr lang="el" err="1"/>
            <a:t>σημαντική</a:t>
          </a:r>
          <a:r>
            <a:rPr lang="el"/>
            <a:t> </a:t>
          </a:r>
          <a:r>
            <a:rPr lang="el" err="1"/>
            <a:t>επιβράδυνση </a:t>
          </a:r>
          <a:r>
            <a:rPr lang="el"/>
            <a:t>σε </a:t>
          </a:r>
          <a:r>
            <a:rPr lang="el" err="1"/>
            <a:t>εξέλιξη </a:t>
          </a:r>
          <a:r>
            <a:rPr lang="el"/>
            <a:t>ή </a:t>
          </a:r>
          <a:r>
            <a:rPr lang="el" err="1"/>
            <a:t>ακόμα και </a:t>
          </a:r>
          <a:r>
            <a:rPr lang="el"/>
            <a:t>στασιμότητα</a:t>
          </a:r>
        </a:p>
      </dgm:t>
    </dgm:pt>
    <dgm:pt modelId="{05C73D18-21AE-EE4D-B345-CBA101D82923}" type="parTrans" cxnId="{3E4A7378-4532-C543-B1AA-4D1C9E940946}">
      <dgm:prSet/>
      <dgm:spPr/>
    </dgm:pt>
    <dgm:pt modelId="{EFEEBE17-BAA6-AE44-916E-6EA723F7BBB7}" type="sibTrans" cxnId="{3E4A7378-4532-C543-B1AA-4D1C9E940946}">
      <dgm:prSet/>
      <dgm:spPr/>
    </dgm:pt>
    <dgm:pt modelId="{730E7537-24BF-E34E-9A48-70439244C0A5}">
      <dgm:prSet phldrT="[Texte]"/>
      <dgm:spPr/>
      <dgm:t>
        <a:bodyPr/>
        <a:lstStyle/>
        <a:p>
          <a:r>
            <a:rPr lang="el"/>
            <a:t>Στασιμότητα της </a:t>
          </a:r>
          <a:r>
            <a:rPr lang="el" err="1"/>
            <a:t>κατανόησης</a:t>
          </a:r>
          <a:r>
            <a:rPr lang="el"/>
            <a:t> </a:t>
          </a:r>
          <a:r>
            <a:rPr lang="el" err="1"/>
            <a:t>δεξιότητες</a:t>
          </a:r>
          <a:r>
            <a:rPr lang="el"/>
            <a:t> </a:t>
          </a:r>
          <a:r>
            <a:rPr lang="el" err="1"/>
            <a:t>μεταξύ </a:t>
          </a:r>
          <a:r>
            <a:rPr lang="el"/>
            <a:t>της εφηβείας και </a:t>
          </a:r>
          <a:r>
            <a:rPr lang="el" err="1"/>
            <a:t>της ενηλικίωσης</a:t>
          </a:r>
          <a:endParaRPr lang="fr-FR"/>
        </a:p>
      </dgm:t>
    </dgm:pt>
    <dgm:pt modelId="{6C359502-2CF4-EA45-A922-1149E86C6781}" type="parTrans" cxnId="{23CFA1CD-CDD6-1B49-A0A0-C6BA1C1B2110}">
      <dgm:prSet/>
      <dgm:spPr/>
    </dgm:pt>
    <dgm:pt modelId="{E0C8EFF1-BCBE-5B4C-8BFA-3EFF3920A0CA}" type="sibTrans" cxnId="{23CFA1CD-CDD6-1B49-A0A0-C6BA1C1B2110}">
      <dgm:prSet/>
      <dgm:spPr/>
    </dgm:pt>
    <dgm:pt modelId="{430D54E5-770F-3443-AA78-A38B166FD44F}">
      <dgm:prSet/>
      <dgm:spPr/>
      <dgm:t>
        <a:bodyPr/>
        <a:lstStyle/>
        <a:p>
          <a:r>
            <a:rPr lang="el"/>
            <a:t>Τα μοτίβα </a:t>
          </a:r>
          <a:r>
            <a:rPr lang="el" err="1"/>
            <a:t>ελλιπή</a:t>
          </a:r>
          <a:r>
            <a:rPr lang="el"/>
            <a:t> </a:t>
          </a:r>
          <a:r>
            <a:rPr lang="el" err="1"/>
            <a:t>όποια και αν είναι </a:t>
          </a:r>
          <a:r>
            <a:rPr lang="el"/>
            <a:t>η </a:t>
          </a:r>
          <a:r>
            <a:rPr lang="el" err="1"/>
            <a:t>χρονολογική</a:t>
          </a:r>
          <a:r>
            <a:rPr lang="el"/>
            <a:t> </a:t>
          </a:r>
          <a:r>
            <a:rPr lang="el" err="1"/>
            <a:t>ηλικία</a:t>
          </a:r>
          <a:endParaRPr lang="fr-FR"/>
        </a:p>
      </dgm:t>
    </dgm:pt>
    <dgm:pt modelId="{3C94CA54-CF32-C54D-9485-FE80406F5F23}" type="parTrans" cxnId="{BFF10111-C2F4-5243-B9B6-131665098234}">
      <dgm:prSet/>
      <dgm:spPr/>
    </dgm:pt>
    <dgm:pt modelId="{FFDEF994-10F2-9A4C-A62F-FF3C3E53F2B9}" type="sibTrans" cxnId="{BFF10111-C2F4-5243-B9B6-131665098234}">
      <dgm:prSet/>
      <dgm:spPr/>
    </dgm:pt>
    <dgm:pt modelId="{53C7375B-2CAF-4942-80C0-79609A7B8C1B}">
      <dgm:prSet/>
      <dgm:spPr/>
      <dgm:t>
        <a:bodyPr/>
        <a:lstStyle/>
        <a:p>
          <a:r>
            <a:rPr lang="el" err="1"/>
            <a:t>Κατανόηση </a:t>
          </a:r>
          <a:r>
            <a:rPr lang="el"/>
            <a:t>και παραγωγή </a:t>
          </a:r>
          <a:r>
            <a:rPr lang="el" err="1"/>
            <a:t>παρακάτω</a:t>
          </a:r>
          <a:r>
            <a:rPr lang="el"/>
            <a:t> </a:t>
          </a:r>
          <a:r>
            <a:rPr lang="el" err="1"/>
            <a:t>τι</a:t>
          </a:r>
          <a:r>
            <a:rPr lang="el"/>
            <a:t> </a:t>
          </a:r>
          <a:r>
            <a:rPr lang="el" err="1"/>
            <a:t>είναι</a:t>
          </a:r>
          <a:r>
            <a:rPr lang="el"/>
            <a:t> </a:t>
          </a:r>
          <a:r>
            <a:rPr lang="el" err="1"/>
            <a:t>αναμενόμενος</a:t>
          </a:r>
          <a:r>
            <a:rPr lang="el"/>
            <a:t> </a:t>
          </a:r>
          <a:r>
            <a:rPr lang="el" err="1"/>
            <a:t>με βάση </a:t>
          </a:r>
          <a:r>
            <a:rPr lang="el"/>
            <a:t>τη μη λεκτική νοητική </a:t>
          </a:r>
          <a:r>
            <a:rPr lang="el" err="1"/>
            <a:t>ηλικία</a:t>
          </a:r>
          <a:endParaRPr lang="fr-FR"/>
        </a:p>
      </dgm:t>
    </dgm:pt>
    <dgm:pt modelId="{4EA218F2-D3E1-724E-9C6F-3F9569D332A3}" type="parTrans" cxnId="{8AA920C9-370D-3D4C-9776-71460F02D686}">
      <dgm:prSet/>
      <dgm:spPr/>
    </dgm:pt>
    <dgm:pt modelId="{5314D350-D338-B748-A73F-D0B9ECDB9198}" type="sibTrans" cxnId="{8AA920C9-370D-3D4C-9776-71460F02D686}">
      <dgm:prSet/>
      <dgm:spPr/>
    </dgm:pt>
    <dgm:pt modelId="{2CAC2881-60FE-E54F-8214-BB0A2DC05722}" type="pres">
      <dgm:prSet presAssocID="{E6952977-11B1-0C42-8A56-54DEFF63867E}" presName="linear" presStyleCnt="0">
        <dgm:presLayoutVars>
          <dgm:dir/>
          <dgm:animLvl val="lvl"/>
          <dgm:resizeHandles val="exact"/>
        </dgm:presLayoutVars>
      </dgm:prSet>
      <dgm:spPr/>
    </dgm:pt>
    <dgm:pt modelId="{98FB5F38-0616-0D4D-B584-7EA6F81EC3D6}" type="pres">
      <dgm:prSet presAssocID="{84730677-D39A-EC4F-ADFB-6547283C60EB}" presName="parentLin" presStyleCnt="0"/>
      <dgm:spPr/>
    </dgm:pt>
    <dgm:pt modelId="{BBA22771-4C97-0646-9ED5-8A39283E9674}" type="pres">
      <dgm:prSet presAssocID="{84730677-D39A-EC4F-ADFB-6547283C60EB}" presName="parentLeftMargin" presStyleLbl="node1" presStyleIdx="0" presStyleCnt="3"/>
      <dgm:spPr/>
    </dgm:pt>
    <dgm:pt modelId="{6DB1BF1D-251F-4646-8E8C-F1D68F7FE045}" type="pres">
      <dgm:prSet presAssocID="{84730677-D39A-EC4F-ADFB-6547283C60EB}" presName="parentText" presStyleLbl="node1" presStyleIdx="0" presStyleCnt="3">
        <dgm:presLayoutVars>
          <dgm:chMax val="0"/>
          <dgm:bulletEnabled val="1"/>
        </dgm:presLayoutVars>
      </dgm:prSet>
      <dgm:spPr/>
    </dgm:pt>
    <dgm:pt modelId="{07F33872-3AED-334D-87C5-C2290A4F35F2}" type="pres">
      <dgm:prSet presAssocID="{84730677-D39A-EC4F-ADFB-6547283C60EB}" presName="negativeSpace" presStyleCnt="0"/>
      <dgm:spPr/>
    </dgm:pt>
    <dgm:pt modelId="{6E9FAC2C-83F1-B84A-A385-A66F88712B94}" type="pres">
      <dgm:prSet presAssocID="{84730677-D39A-EC4F-ADFB-6547283C60EB}" presName="childText" presStyleLbl="conFgAcc1" presStyleIdx="0" presStyleCnt="3">
        <dgm:presLayoutVars>
          <dgm:bulletEnabled val="1"/>
        </dgm:presLayoutVars>
      </dgm:prSet>
      <dgm:spPr/>
    </dgm:pt>
    <dgm:pt modelId="{7D8A2518-6D3F-8441-B4BC-5B51898E65A5}" type="pres">
      <dgm:prSet presAssocID="{AFC65A4E-0156-B646-A254-7A1078AE73DB}" presName="spaceBetweenRectangles" presStyleCnt="0"/>
      <dgm:spPr/>
    </dgm:pt>
    <dgm:pt modelId="{9F93DE95-DDC3-DF47-B4E3-73AC5C5282DA}" type="pres">
      <dgm:prSet presAssocID="{F5DDC28B-9BCB-9247-A544-499A4BFCCC73}" presName="parentLin" presStyleCnt="0"/>
      <dgm:spPr/>
    </dgm:pt>
    <dgm:pt modelId="{433BE2D8-826C-0A42-9591-9BEF0596D375}" type="pres">
      <dgm:prSet presAssocID="{F5DDC28B-9BCB-9247-A544-499A4BFCCC73}" presName="parentLeftMargin" presStyleLbl="node1" presStyleIdx="0" presStyleCnt="3"/>
      <dgm:spPr/>
    </dgm:pt>
    <dgm:pt modelId="{98038DE5-5CA4-9D43-9F86-4564A5538790}" type="pres">
      <dgm:prSet presAssocID="{F5DDC28B-9BCB-9247-A544-499A4BFCCC73}" presName="parentText" presStyleLbl="node1" presStyleIdx="1" presStyleCnt="3">
        <dgm:presLayoutVars>
          <dgm:chMax val="0"/>
          <dgm:bulletEnabled val="1"/>
        </dgm:presLayoutVars>
      </dgm:prSet>
      <dgm:spPr/>
    </dgm:pt>
    <dgm:pt modelId="{673ED2B6-6149-9E4C-A727-9D5536D4EFC5}" type="pres">
      <dgm:prSet presAssocID="{F5DDC28B-9BCB-9247-A544-499A4BFCCC73}" presName="negativeSpace" presStyleCnt="0"/>
      <dgm:spPr/>
    </dgm:pt>
    <dgm:pt modelId="{759C6F96-94ED-5342-9E93-A7BC11867AF9}" type="pres">
      <dgm:prSet presAssocID="{F5DDC28B-9BCB-9247-A544-499A4BFCCC73}" presName="childText" presStyleLbl="conFgAcc1" presStyleIdx="1" presStyleCnt="3">
        <dgm:presLayoutVars>
          <dgm:bulletEnabled val="1"/>
        </dgm:presLayoutVars>
      </dgm:prSet>
      <dgm:spPr/>
    </dgm:pt>
    <dgm:pt modelId="{E8864DB0-A787-C24A-8F59-D928ED38192D}" type="pres">
      <dgm:prSet presAssocID="{DC883DE7-DDA1-464C-9A1D-073C00BCE8D1}" presName="spaceBetweenRectangles" presStyleCnt="0"/>
      <dgm:spPr/>
    </dgm:pt>
    <dgm:pt modelId="{1D3A17FF-6694-4B46-AC60-D5129FD661E9}" type="pres">
      <dgm:prSet presAssocID="{53FFFA87-1FBB-6045-94ED-53EC98E68629}" presName="parentLin" presStyleCnt="0"/>
      <dgm:spPr/>
    </dgm:pt>
    <dgm:pt modelId="{9F97CD49-076A-6440-90A2-3688A7467294}" type="pres">
      <dgm:prSet presAssocID="{53FFFA87-1FBB-6045-94ED-53EC98E68629}" presName="parentLeftMargin" presStyleLbl="node1" presStyleIdx="1" presStyleCnt="3"/>
      <dgm:spPr/>
    </dgm:pt>
    <dgm:pt modelId="{64232A29-63A7-1D45-AE6E-DA7D582C08DE}" type="pres">
      <dgm:prSet presAssocID="{53FFFA87-1FBB-6045-94ED-53EC98E68629}" presName="parentText" presStyleLbl="node1" presStyleIdx="2" presStyleCnt="3">
        <dgm:presLayoutVars>
          <dgm:chMax val="0"/>
          <dgm:bulletEnabled val="1"/>
        </dgm:presLayoutVars>
      </dgm:prSet>
      <dgm:spPr/>
    </dgm:pt>
    <dgm:pt modelId="{9C8B8C67-375C-284D-9D24-BF031B71393F}" type="pres">
      <dgm:prSet presAssocID="{53FFFA87-1FBB-6045-94ED-53EC98E68629}" presName="negativeSpace" presStyleCnt="0"/>
      <dgm:spPr/>
    </dgm:pt>
    <dgm:pt modelId="{CE9F1BDD-5ADA-6C49-B84E-90F94A247CC5}" type="pres">
      <dgm:prSet presAssocID="{53FFFA87-1FBB-6045-94ED-53EC98E68629}" presName="childText" presStyleLbl="conFgAcc1" presStyleIdx="2" presStyleCnt="3">
        <dgm:presLayoutVars>
          <dgm:bulletEnabled val="1"/>
        </dgm:presLayoutVars>
      </dgm:prSet>
      <dgm:spPr/>
    </dgm:pt>
  </dgm:ptLst>
  <dgm:cxnLst>
    <dgm:cxn modelId="{46527E01-4F36-6A40-9B65-D37706BE3408}" srcId="{E6952977-11B1-0C42-8A56-54DEFF63867E}" destId="{84730677-D39A-EC4F-ADFB-6547283C60EB}" srcOrd="0" destOrd="0" parTransId="{E55006AB-BA0B-344C-9062-DB668BB9EAFF}" sibTransId="{AFC65A4E-0156-B646-A254-7A1078AE73DB}"/>
    <dgm:cxn modelId="{BFF10111-C2F4-5243-B9B6-131665098234}" srcId="{53FFFA87-1FBB-6045-94ED-53EC98E68629}" destId="{430D54E5-770F-3443-AA78-A38B166FD44F}" srcOrd="0" destOrd="0" parTransId="{3C94CA54-CF32-C54D-9485-FE80406F5F23}" sibTransId="{FFDEF994-10F2-9A4C-A62F-FF3C3E53F2B9}"/>
    <dgm:cxn modelId="{4612682D-EB96-2143-A4A9-A86A0CD284AA}" type="presOf" srcId="{84730677-D39A-EC4F-ADFB-6547283C60EB}" destId="{BBA22771-4C97-0646-9ED5-8A39283E9674}" srcOrd="0" destOrd="0" presId="urn:microsoft.com/office/officeart/2005/8/layout/list1"/>
    <dgm:cxn modelId="{BEE93E33-4CFD-CA47-AED7-93A32D95B158}" type="presOf" srcId="{F5DDC28B-9BCB-9247-A544-499A4BFCCC73}" destId="{433BE2D8-826C-0A42-9591-9BEF0596D375}" srcOrd="0" destOrd="0" presId="urn:microsoft.com/office/officeart/2005/8/layout/list1"/>
    <dgm:cxn modelId="{FD423F3A-2A44-CD41-9212-62B5B7EDFFC1}" type="presOf" srcId="{730E7537-24BF-E34E-9A48-70439244C0A5}" destId="{759C6F96-94ED-5342-9E93-A7BC11867AF9}" srcOrd="0" destOrd="1" presId="urn:microsoft.com/office/officeart/2005/8/layout/list1"/>
    <dgm:cxn modelId="{C46F9148-FC84-A54F-B677-9CBDCC2C4F64}" srcId="{84730677-D39A-EC4F-ADFB-6547283C60EB}" destId="{0BFB138F-9BAE-1E44-8AA3-0CD424FAA81A}" srcOrd="1" destOrd="0" parTransId="{3A48F0F5-DB8B-6247-BFE9-13D38B8A7D8A}" sibTransId="{4F709AD4-C631-134D-A4BC-33FB44E6F719}"/>
    <dgm:cxn modelId="{6C9A476E-B59E-B64C-B560-910220877592}" type="presOf" srcId="{F5DDC28B-9BCB-9247-A544-499A4BFCCC73}" destId="{98038DE5-5CA4-9D43-9F86-4564A5538790}" srcOrd="1" destOrd="0" presId="urn:microsoft.com/office/officeart/2005/8/layout/list1"/>
    <dgm:cxn modelId="{62A98770-84F5-5F4C-8F49-15E9642983EC}" type="presOf" srcId="{0BFB138F-9BAE-1E44-8AA3-0CD424FAA81A}" destId="{6E9FAC2C-83F1-B84A-A385-A66F88712B94}" srcOrd="0" destOrd="1" presId="urn:microsoft.com/office/officeart/2005/8/layout/list1"/>
    <dgm:cxn modelId="{3E4A7378-4532-C543-B1AA-4D1C9E940946}" srcId="{F5DDC28B-9BCB-9247-A544-499A4BFCCC73}" destId="{3C9A3DE8-244D-EC4C-B2AD-6799F02EC81B}" srcOrd="0" destOrd="0" parTransId="{05C73D18-21AE-EE4D-B345-CBA101D82923}" sibTransId="{EFEEBE17-BAA6-AE44-916E-6EA723F7BBB7}"/>
    <dgm:cxn modelId="{7FC2AF83-CF6B-F243-83B4-296A666C2CCB}" type="presOf" srcId="{E6952977-11B1-0C42-8A56-54DEFF63867E}" destId="{2CAC2881-60FE-E54F-8214-BB0A2DC05722}" srcOrd="0" destOrd="0" presId="urn:microsoft.com/office/officeart/2005/8/layout/list1"/>
    <dgm:cxn modelId="{8666558E-CA4D-5847-9984-D4D30B065588}" srcId="{84730677-D39A-EC4F-ADFB-6547283C60EB}" destId="{5990E373-BF01-3544-98D3-F3BAA8D634F4}" srcOrd="0" destOrd="0" parTransId="{57954CCE-29BE-2A4A-80AB-1FD6A2D404F0}" sibTransId="{28CB6495-FE60-CC4D-9131-B616A2FFE074}"/>
    <dgm:cxn modelId="{64079C9A-2EFF-944C-8289-1D417AF8BDB4}" srcId="{E6952977-11B1-0C42-8A56-54DEFF63867E}" destId="{F5DDC28B-9BCB-9247-A544-499A4BFCCC73}" srcOrd="1" destOrd="0" parTransId="{EBD46EED-13A1-B54D-970C-6716F8087E6E}" sibTransId="{DC883DE7-DDA1-464C-9A1D-073C00BCE8D1}"/>
    <dgm:cxn modelId="{E15CE09A-28E0-2943-9256-6BF4EEB7F66B}" type="presOf" srcId="{53C7375B-2CAF-4942-80C0-79609A7B8C1B}" destId="{CE9F1BDD-5ADA-6C49-B84E-90F94A247CC5}" srcOrd="0" destOrd="1" presId="urn:microsoft.com/office/officeart/2005/8/layout/list1"/>
    <dgm:cxn modelId="{9BC9F49F-16F5-3C41-B6B5-C96DF814F380}" type="presOf" srcId="{53FFFA87-1FBB-6045-94ED-53EC98E68629}" destId="{64232A29-63A7-1D45-AE6E-DA7D582C08DE}" srcOrd="1" destOrd="0" presId="urn:microsoft.com/office/officeart/2005/8/layout/list1"/>
    <dgm:cxn modelId="{25DA7EAD-E845-6F40-BC5B-84FE92104CFC}" type="presOf" srcId="{3C9A3DE8-244D-EC4C-B2AD-6799F02EC81B}" destId="{759C6F96-94ED-5342-9E93-A7BC11867AF9}" srcOrd="0" destOrd="0" presId="urn:microsoft.com/office/officeart/2005/8/layout/list1"/>
    <dgm:cxn modelId="{3B1EA1B6-C41C-804D-A6C4-EC5888869EE0}" type="presOf" srcId="{53FFFA87-1FBB-6045-94ED-53EC98E68629}" destId="{9F97CD49-076A-6440-90A2-3688A7467294}" srcOrd="0" destOrd="0" presId="urn:microsoft.com/office/officeart/2005/8/layout/list1"/>
    <dgm:cxn modelId="{B51B3EBF-A51B-5546-A403-A4E2E9726DE9}" srcId="{E6952977-11B1-0C42-8A56-54DEFF63867E}" destId="{53FFFA87-1FBB-6045-94ED-53EC98E68629}" srcOrd="2" destOrd="0" parTransId="{1A17D14C-94C9-5F4F-9E79-BEE70B0D95F4}" sibTransId="{2753A70D-9EDA-6646-9DA9-D463269E4B68}"/>
    <dgm:cxn modelId="{8AA920C9-370D-3D4C-9776-71460F02D686}" srcId="{53FFFA87-1FBB-6045-94ED-53EC98E68629}" destId="{53C7375B-2CAF-4942-80C0-79609A7B8C1B}" srcOrd="1" destOrd="0" parTransId="{4EA218F2-D3E1-724E-9C6F-3F9569D332A3}" sibTransId="{5314D350-D338-B748-A73F-D0B9ECDB9198}"/>
    <dgm:cxn modelId="{23CFA1CD-CDD6-1B49-A0A0-C6BA1C1B2110}" srcId="{F5DDC28B-9BCB-9247-A544-499A4BFCCC73}" destId="{730E7537-24BF-E34E-9A48-70439244C0A5}" srcOrd="1" destOrd="0" parTransId="{6C359502-2CF4-EA45-A922-1149E86C6781}" sibTransId="{E0C8EFF1-BCBE-5B4C-8BFA-3EFF3920A0CA}"/>
    <dgm:cxn modelId="{D10765CE-3368-CF4C-A7B8-C01C31134461}" type="presOf" srcId="{5990E373-BF01-3544-98D3-F3BAA8D634F4}" destId="{6E9FAC2C-83F1-B84A-A385-A66F88712B94}" srcOrd="0" destOrd="0" presId="urn:microsoft.com/office/officeart/2005/8/layout/list1"/>
    <dgm:cxn modelId="{A21462DA-C163-B444-9A1B-EE842BD8BFA7}" type="presOf" srcId="{430D54E5-770F-3443-AA78-A38B166FD44F}" destId="{CE9F1BDD-5ADA-6C49-B84E-90F94A247CC5}" srcOrd="0" destOrd="0" presId="urn:microsoft.com/office/officeart/2005/8/layout/list1"/>
    <dgm:cxn modelId="{78667AEE-969B-0140-948D-FD14BDF0179A}" type="presOf" srcId="{84730677-D39A-EC4F-ADFB-6547283C60EB}" destId="{6DB1BF1D-251F-4646-8E8C-F1D68F7FE045}" srcOrd="1" destOrd="0" presId="urn:microsoft.com/office/officeart/2005/8/layout/list1"/>
    <dgm:cxn modelId="{885CF788-D45A-474A-ADEB-FADB2324D26A}" type="presParOf" srcId="{2CAC2881-60FE-E54F-8214-BB0A2DC05722}" destId="{98FB5F38-0616-0D4D-B584-7EA6F81EC3D6}" srcOrd="0" destOrd="0" presId="urn:microsoft.com/office/officeart/2005/8/layout/list1"/>
    <dgm:cxn modelId="{BD0AF1E1-5364-F14E-804D-AC535EB7F90D}" type="presParOf" srcId="{98FB5F38-0616-0D4D-B584-7EA6F81EC3D6}" destId="{BBA22771-4C97-0646-9ED5-8A39283E9674}" srcOrd="0" destOrd="0" presId="urn:microsoft.com/office/officeart/2005/8/layout/list1"/>
    <dgm:cxn modelId="{B22743F6-D868-614B-8245-6BB387B5E3CD}" type="presParOf" srcId="{98FB5F38-0616-0D4D-B584-7EA6F81EC3D6}" destId="{6DB1BF1D-251F-4646-8E8C-F1D68F7FE045}" srcOrd="1" destOrd="0" presId="urn:microsoft.com/office/officeart/2005/8/layout/list1"/>
    <dgm:cxn modelId="{87BB190A-9DE6-F04F-B811-8C5F7D8BC455}" type="presParOf" srcId="{2CAC2881-60FE-E54F-8214-BB0A2DC05722}" destId="{07F33872-3AED-334D-87C5-C2290A4F35F2}" srcOrd="1" destOrd="0" presId="urn:microsoft.com/office/officeart/2005/8/layout/list1"/>
    <dgm:cxn modelId="{00F15B15-97C2-D64D-AA61-D8C08D9BC1C6}" type="presParOf" srcId="{2CAC2881-60FE-E54F-8214-BB0A2DC05722}" destId="{6E9FAC2C-83F1-B84A-A385-A66F88712B94}" srcOrd="2" destOrd="0" presId="urn:microsoft.com/office/officeart/2005/8/layout/list1"/>
    <dgm:cxn modelId="{8DC9184E-D16F-FE47-BE89-D3E02A6E64CF}" type="presParOf" srcId="{2CAC2881-60FE-E54F-8214-BB0A2DC05722}" destId="{7D8A2518-6D3F-8441-B4BC-5B51898E65A5}" srcOrd="3" destOrd="0" presId="urn:microsoft.com/office/officeart/2005/8/layout/list1"/>
    <dgm:cxn modelId="{46CDC818-D4BB-904F-9101-7428F0948F59}" type="presParOf" srcId="{2CAC2881-60FE-E54F-8214-BB0A2DC05722}" destId="{9F93DE95-DDC3-DF47-B4E3-73AC5C5282DA}" srcOrd="4" destOrd="0" presId="urn:microsoft.com/office/officeart/2005/8/layout/list1"/>
    <dgm:cxn modelId="{9A0EB0EA-8BAC-DD4B-BD03-2EBE4E1BD832}" type="presParOf" srcId="{9F93DE95-DDC3-DF47-B4E3-73AC5C5282DA}" destId="{433BE2D8-826C-0A42-9591-9BEF0596D375}" srcOrd="0" destOrd="0" presId="urn:microsoft.com/office/officeart/2005/8/layout/list1"/>
    <dgm:cxn modelId="{345C12C9-33A3-0C44-8D47-FF604ECF4C97}" type="presParOf" srcId="{9F93DE95-DDC3-DF47-B4E3-73AC5C5282DA}" destId="{98038DE5-5CA4-9D43-9F86-4564A5538790}" srcOrd="1" destOrd="0" presId="urn:microsoft.com/office/officeart/2005/8/layout/list1"/>
    <dgm:cxn modelId="{6EBAA92F-69DF-9042-9FF6-77A4200F3511}" type="presParOf" srcId="{2CAC2881-60FE-E54F-8214-BB0A2DC05722}" destId="{673ED2B6-6149-9E4C-A727-9D5536D4EFC5}" srcOrd="5" destOrd="0" presId="urn:microsoft.com/office/officeart/2005/8/layout/list1"/>
    <dgm:cxn modelId="{93D03CF8-9C24-A54A-8727-975BF18493F9}" type="presParOf" srcId="{2CAC2881-60FE-E54F-8214-BB0A2DC05722}" destId="{759C6F96-94ED-5342-9E93-A7BC11867AF9}" srcOrd="6" destOrd="0" presId="urn:microsoft.com/office/officeart/2005/8/layout/list1"/>
    <dgm:cxn modelId="{D3B8D0CE-A704-DC4A-8A61-F8365F4BD14B}" type="presParOf" srcId="{2CAC2881-60FE-E54F-8214-BB0A2DC05722}" destId="{E8864DB0-A787-C24A-8F59-D928ED38192D}" srcOrd="7" destOrd="0" presId="urn:microsoft.com/office/officeart/2005/8/layout/list1"/>
    <dgm:cxn modelId="{392F7A00-9635-D342-BCC1-BFC7BD3D22DB}" type="presParOf" srcId="{2CAC2881-60FE-E54F-8214-BB0A2DC05722}" destId="{1D3A17FF-6694-4B46-AC60-D5129FD661E9}" srcOrd="8" destOrd="0" presId="urn:microsoft.com/office/officeart/2005/8/layout/list1"/>
    <dgm:cxn modelId="{5DEB793C-6A1B-4B46-8CBD-C2881D202E4D}" type="presParOf" srcId="{1D3A17FF-6694-4B46-AC60-D5129FD661E9}" destId="{9F97CD49-076A-6440-90A2-3688A7467294}" srcOrd="0" destOrd="0" presId="urn:microsoft.com/office/officeart/2005/8/layout/list1"/>
    <dgm:cxn modelId="{DA2A2433-B48F-5A41-9346-FCF1026D8C77}" type="presParOf" srcId="{1D3A17FF-6694-4B46-AC60-D5129FD661E9}" destId="{64232A29-63A7-1D45-AE6E-DA7D582C08DE}" srcOrd="1" destOrd="0" presId="urn:microsoft.com/office/officeart/2005/8/layout/list1"/>
    <dgm:cxn modelId="{9A2EAE51-0E0E-354D-A163-115D0300350A}" type="presParOf" srcId="{2CAC2881-60FE-E54F-8214-BB0A2DC05722}" destId="{9C8B8C67-375C-284D-9D24-BF031B71393F}" srcOrd="9" destOrd="0" presId="urn:microsoft.com/office/officeart/2005/8/layout/list1"/>
    <dgm:cxn modelId="{ECD40A2F-E1BB-6D48-B1E5-F3D86A4BD7CC}" type="presParOf" srcId="{2CAC2881-60FE-E54F-8214-BB0A2DC05722}" destId="{CE9F1BDD-5ADA-6C49-B84E-90F94A247CC5}" srcOrd="10" destOrd="0" presId="urn:microsoft.com/office/officeart/2005/8/layout/list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F249AF7A-D847-CA4F-B8AD-A8E823C8692C}" type="doc">
      <dgm:prSet loTypeId="urn:microsoft.com/office/officeart/2005/8/layout/default" loCatId="" qsTypeId="urn:microsoft.com/office/officeart/2005/8/quickstyle/simple1" qsCatId="simple" csTypeId="urn:microsoft.com/office/officeart/2005/8/colors/accent1_3" csCatId="accent1" phldr="1"/>
      <dgm:spPr/>
      <dgm:t>
        <a:bodyPr/>
        <a:lstStyle/>
        <a:p>
          <a:endParaRPr lang="fr-FR"/>
        </a:p>
      </dgm:t>
    </dgm:pt>
    <dgm:pt modelId="{AA791F49-A480-464E-93DA-8DFFD3D674E8}">
      <dgm:prSet phldrT="[Texte]"/>
      <dgm:spPr/>
      <dgm:t>
        <a:bodyPr/>
        <a:lstStyle/>
        <a:p>
          <a:r>
            <a:rPr lang="el" err="1"/>
            <a:t>Συγκρότημα</a:t>
          </a:r>
          <a:r>
            <a:rPr lang="el"/>
            <a:t> </a:t>
          </a:r>
          <a:r>
            <a:rPr lang="el" err="1"/>
            <a:t>ανέντ</a:t>
          </a:r>
          <a:r>
            <a:rPr lang="el"/>
            <a:t> </a:t>
          </a:r>
          <a:r>
            <a:rPr lang="el" err="1"/>
            <a:t>επεξεργασμένα</a:t>
          </a:r>
          <a:r>
            <a:rPr lang="el"/>
            <a:t> </a:t>
          </a:r>
          <a:r>
            <a:rPr lang="el" err="1"/>
            <a:t>σύνταξη </a:t>
          </a:r>
          <a:r>
            <a:rPr lang="el"/>
            <a:t>δεν </a:t>
          </a:r>
          <a:r>
            <a:rPr lang="el" err="1"/>
            <a:t>αποκτήθηκε</a:t>
          </a:r>
          <a:endParaRPr lang="fr-FR"/>
        </a:p>
      </dgm:t>
    </dgm:pt>
    <dgm:pt modelId="{1219A00B-5B35-3B4C-97B7-CC7E58E885A5}" type="parTrans" cxnId="{D2A88296-9CDE-464E-95C5-F5D412C5CD17}">
      <dgm:prSet/>
      <dgm:spPr/>
      <dgm:t>
        <a:bodyPr/>
        <a:lstStyle/>
        <a:p>
          <a:endParaRPr lang="fr-FR"/>
        </a:p>
      </dgm:t>
    </dgm:pt>
    <dgm:pt modelId="{D0508D33-D4D7-2043-9B4C-D70F217A12BA}" type="sibTrans" cxnId="{D2A88296-9CDE-464E-95C5-F5D412C5CD17}">
      <dgm:prSet/>
      <dgm:spPr/>
      <dgm:t>
        <a:bodyPr/>
        <a:lstStyle/>
        <a:p>
          <a:endParaRPr lang="fr-FR"/>
        </a:p>
      </dgm:t>
    </dgm:pt>
    <dgm:pt modelId="{DFA39E31-7A7D-7D4F-A83F-8BB72A0470B6}">
      <dgm:prSet phldrT="[Texte]"/>
      <dgm:spPr/>
      <dgm:t>
        <a:bodyPr/>
        <a:lstStyle/>
        <a:p>
          <a:r>
            <a:rPr lang="el"/>
            <a:t>Παράλειψη γραμματικών </a:t>
          </a:r>
          <a:r>
            <a:rPr lang="el" err="1"/>
            <a:t>μορφωμάτων</a:t>
          </a:r>
          <a:endParaRPr lang="fr-FR"/>
        </a:p>
      </dgm:t>
    </dgm:pt>
    <dgm:pt modelId="{5B642DA1-495A-1B4E-ABE8-F5CEA022806E}" type="parTrans" cxnId="{1ADB8DF6-1374-1246-9A61-156F15D6DDA8}">
      <dgm:prSet/>
      <dgm:spPr/>
      <dgm:t>
        <a:bodyPr/>
        <a:lstStyle/>
        <a:p>
          <a:endParaRPr lang="fr-FR"/>
        </a:p>
      </dgm:t>
    </dgm:pt>
    <dgm:pt modelId="{38C12D7E-3F66-324B-8ABD-61CEAAACA454}" type="sibTrans" cxnId="{1ADB8DF6-1374-1246-9A61-156F15D6DDA8}">
      <dgm:prSet/>
      <dgm:spPr/>
      <dgm:t>
        <a:bodyPr/>
        <a:lstStyle/>
        <a:p>
          <a:endParaRPr lang="fr-FR"/>
        </a:p>
      </dgm:t>
    </dgm:pt>
    <dgm:pt modelId="{E858CA52-CA3A-FE45-A25E-4B839D26039C}">
      <dgm:prSet phldrT="[Texte]"/>
      <dgm:spPr/>
      <dgm:t>
        <a:bodyPr/>
        <a:lstStyle/>
        <a:p>
          <a:r>
            <a:rPr lang="el" err="1"/>
            <a:t>Συχνή </a:t>
          </a:r>
          <a:r>
            <a:rPr lang="el"/>
            <a:t>παράλειψη </a:t>
          </a:r>
          <a:r>
            <a:rPr lang="el" err="1"/>
            <a:t>λειτουργίας</a:t>
          </a:r>
          <a:r>
            <a:rPr lang="el"/>
            <a:t> </a:t>
          </a:r>
          <a:r>
            <a:rPr lang="el" err="1"/>
            <a:t>λόγια</a:t>
          </a:r>
          <a:endParaRPr lang="fr-FR"/>
        </a:p>
      </dgm:t>
    </dgm:pt>
    <dgm:pt modelId="{B683C7D6-CB0D-4148-B876-F52679548C3D}" type="parTrans" cxnId="{23BA9089-BC9A-5E4D-92AB-197E3FD34688}">
      <dgm:prSet/>
      <dgm:spPr/>
      <dgm:t>
        <a:bodyPr/>
        <a:lstStyle/>
        <a:p>
          <a:endParaRPr lang="fr-FR"/>
        </a:p>
      </dgm:t>
    </dgm:pt>
    <dgm:pt modelId="{9A7D8374-943E-7C43-8C2B-48F1DDB2CCA2}" type="sibTrans" cxnId="{23BA9089-BC9A-5E4D-92AB-197E3FD34688}">
      <dgm:prSet/>
      <dgm:spPr/>
      <dgm:t>
        <a:bodyPr/>
        <a:lstStyle/>
        <a:p>
          <a:endParaRPr lang="fr-FR"/>
        </a:p>
      </dgm:t>
    </dgm:pt>
    <dgm:pt modelId="{597B59D3-A71E-3A4C-B16E-FB20FC102039}">
      <dgm:prSet phldrT="[Texte]"/>
      <dgm:spPr/>
      <dgm:t>
        <a:bodyPr/>
        <a:lstStyle/>
        <a:p>
          <a:r>
            <a:rPr lang="el" err="1"/>
            <a:t>Επίπεδο </a:t>
          </a:r>
          <a:r>
            <a:rPr lang="el"/>
            <a:t>παραγωγής </a:t>
          </a:r>
          <a:r>
            <a:rPr lang="el" err="1"/>
            <a:t>παρακάτω</a:t>
          </a:r>
          <a:r>
            <a:rPr lang="el"/>
            <a:t> </a:t>
          </a:r>
          <a:r>
            <a:rPr lang="el" err="1"/>
            <a:t>κατανόηση</a:t>
          </a:r>
          <a:endParaRPr lang="fr-FR"/>
        </a:p>
      </dgm:t>
    </dgm:pt>
    <dgm:pt modelId="{B04CF1BE-7BDC-8344-B92E-FE90D8E1851F}" type="parTrans" cxnId="{BDD1C9CB-9F42-3341-ACB5-07056B275034}">
      <dgm:prSet/>
      <dgm:spPr/>
      <dgm:t>
        <a:bodyPr/>
        <a:lstStyle/>
        <a:p>
          <a:endParaRPr lang="fr-FR"/>
        </a:p>
      </dgm:t>
    </dgm:pt>
    <dgm:pt modelId="{9D38AC7E-EDC8-6345-AFC6-0E60594994E3}" type="sibTrans" cxnId="{BDD1C9CB-9F42-3341-ACB5-07056B275034}">
      <dgm:prSet/>
      <dgm:spPr/>
      <dgm:t>
        <a:bodyPr/>
        <a:lstStyle/>
        <a:p>
          <a:endParaRPr lang="fr-FR"/>
        </a:p>
      </dgm:t>
    </dgm:pt>
    <dgm:pt modelId="{677E3100-E3BB-3742-896C-55CA746A2536}">
      <dgm:prSet phldrT="[Texte]"/>
      <dgm:spPr/>
      <dgm:t>
        <a:bodyPr/>
        <a:lstStyle/>
        <a:p>
          <a:r>
            <a:rPr lang="el" err="1"/>
            <a:t>Και </a:t>
          </a:r>
          <a:r>
            <a:rPr lang="el"/>
            <a:t>στη </a:t>
          </a:r>
          <a:r>
            <a:rPr lang="el" err="1"/>
            <a:t>σύνταξη </a:t>
          </a:r>
          <a:r>
            <a:rPr lang="el"/>
            <a:t>και στη </a:t>
          </a:r>
          <a:r>
            <a:rPr lang="el" err="1"/>
            <a:t>μορφολογία</a:t>
          </a:r>
          <a:endParaRPr lang="fr-FR"/>
        </a:p>
      </dgm:t>
    </dgm:pt>
    <dgm:pt modelId="{5EA47BFC-F68F-5146-8535-23CEB539979B}" type="parTrans" cxnId="{2F773375-A2A7-7E43-A6BE-DB13D7431033}">
      <dgm:prSet/>
      <dgm:spPr/>
      <dgm:t>
        <a:bodyPr/>
        <a:lstStyle/>
        <a:p>
          <a:endParaRPr lang="fr-FR"/>
        </a:p>
      </dgm:t>
    </dgm:pt>
    <dgm:pt modelId="{280D3A40-8CA8-E249-A8F0-B39154A3FA4E}" type="sibTrans" cxnId="{2F773375-A2A7-7E43-A6BE-DB13D7431033}">
      <dgm:prSet/>
      <dgm:spPr/>
      <dgm:t>
        <a:bodyPr/>
        <a:lstStyle/>
        <a:p>
          <a:endParaRPr lang="fr-FR"/>
        </a:p>
      </dgm:t>
    </dgm:pt>
    <dgm:pt modelId="{02880B52-875C-DB48-94BD-E684D69AF748}">
      <dgm:prSet/>
      <dgm:spPr/>
      <dgm:t>
        <a:bodyPr/>
        <a:lstStyle/>
        <a:p>
          <a:r>
            <a:rPr lang="el" err="1"/>
            <a:t>Έλλειψη </a:t>
          </a:r>
          <a:r>
            <a:rPr lang="el"/>
            <a:t>συντονισμού και υποταγής προτάσεων</a:t>
          </a:r>
        </a:p>
      </dgm:t>
    </dgm:pt>
    <dgm:pt modelId="{5614C609-284E-4147-B89C-6DCBCA32E6EA}" type="parTrans" cxnId="{DC54E1C0-1E14-AE49-B960-EC5BD684747B}">
      <dgm:prSet/>
      <dgm:spPr/>
      <dgm:t>
        <a:bodyPr/>
        <a:lstStyle/>
        <a:p>
          <a:endParaRPr lang="fr-FR"/>
        </a:p>
      </dgm:t>
    </dgm:pt>
    <dgm:pt modelId="{DD7E847A-82DD-3240-9203-9EF2CD7EA236}" type="sibTrans" cxnId="{DC54E1C0-1E14-AE49-B960-EC5BD684747B}">
      <dgm:prSet/>
      <dgm:spPr/>
      <dgm:t>
        <a:bodyPr/>
        <a:lstStyle/>
        <a:p>
          <a:endParaRPr lang="fr-FR"/>
        </a:p>
      </dgm:t>
    </dgm:pt>
    <dgm:pt modelId="{9F9A143A-9695-8F48-BEBE-38898C2A5616}">
      <dgm:prSet/>
      <dgm:spPr/>
      <dgm:t>
        <a:bodyPr/>
        <a:lstStyle/>
        <a:p>
          <a:r>
            <a:rPr lang="el"/>
            <a:t>Λίγα σημάδια </a:t>
          </a:r>
          <a:r>
            <a:rPr lang="el" err="1"/>
            <a:t>φύλου </a:t>
          </a:r>
          <a:r>
            <a:rPr lang="el"/>
            <a:t>και </a:t>
          </a:r>
          <a:r>
            <a:rPr lang="el" err="1"/>
            <a:t>αριθμών σε ουσιαστικά </a:t>
          </a:r>
          <a:r>
            <a:rPr lang="el"/>
            <a:t>και επίθετα</a:t>
          </a:r>
        </a:p>
      </dgm:t>
    </dgm:pt>
    <dgm:pt modelId="{14F9EAB0-B3E1-B74B-9832-81DD7F1FDA33}" type="parTrans" cxnId="{8EEED5E9-FE3D-024D-B14B-4851EE2484A5}">
      <dgm:prSet/>
      <dgm:spPr/>
      <dgm:t>
        <a:bodyPr/>
        <a:lstStyle/>
        <a:p>
          <a:endParaRPr lang="fr-FR"/>
        </a:p>
      </dgm:t>
    </dgm:pt>
    <dgm:pt modelId="{6623ACCD-9127-6744-8B50-D0494C856CB2}" type="sibTrans" cxnId="{8EEED5E9-FE3D-024D-B14B-4851EE2484A5}">
      <dgm:prSet/>
      <dgm:spPr/>
      <dgm:t>
        <a:bodyPr/>
        <a:lstStyle/>
        <a:p>
          <a:endParaRPr lang="fr-FR"/>
        </a:p>
      </dgm:t>
    </dgm:pt>
    <dgm:pt modelId="{81F83DC0-C2C2-AB43-811B-ABD99F8A3087}">
      <dgm:prSet/>
      <dgm:spPr/>
      <dgm:t>
        <a:bodyPr/>
        <a:lstStyle/>
        <a:p>
          <a:r>
            <a:rPr lang="el"/>
            <a:t>Λίγα σημάδια </a:t>
          </a:r>
          <a:r>
            <a:rPr lang="el" err="1"/>
            <a:t>αριθμού </a:t>
          </a:r>
          <a:r>
            <a:rPr lang="el"/>
            <a:t>και </a:t>
          </a:r>
          <a:r>
            <a:rPr lang="el" err="1"/>
            <a:t>χρόνου </a:t>
          </a:r>
          <a:r>
            <a:rPr lang="el"/>
            <a:t>στα </a:t>
          </a:r>
          <a:r>
            <a:rPr lang="el" err="1"/>
            <a:t>ρήματα </a:t>
          </a:r>
          <a:r>
            <a:rPr lang="el"/>
            <a:t>➝ </a:t>
          </a:r>
          <a:r>
            <a:rPr lang="el" err="1"/>
            <a:t>ανεπαρκής</a:t>
          </a:r>
          <a:r>
            <a:rPr lang="el"/>
            <a:t> </a:t>
          </a:r>
          <a:r>
            <a:rPr lang="el" err="1"/>
            <a:t>veb</a:t>
          </a:r>
          <a:r>
            <a:rPr lang="el"/>
            <a:t> </a:t>
          </a:r>
          <a:r>
            <a:rPr lang="el" err="1"/>
            <a:t>καμπές</a:t>
          </a:r>
          <a:endParaRPr lang="fr-FR"/>
        </a:p>
      </dgm:t>
    </dgm:pt>
    <dgm:pt modelId="{D4AA0475-838F-4241-9D84-BE87F8F809E2}" type="parTrans" cxnId="{EC87C964-E130-1646-8810-C69CC07217F1}">
      <dgm:prSet/>
      <dgm:spPr/>
      <dgm:t>
        <a:bodyPr/>
        <a:lstStyle/>
        <a:p>
          <a:endParaRPr lang="fr-FR"/>
        </a:p>
      </dgm:t>
    </dgm:pt>
    <dgm:pt modelId="{E91DCE1D-222A-3B43-A16B-540D25ABAEC9}" type="sibTrans" cxnId="{EC87C964-E130-1646-8810-C69CC07217F1}">
      <dgm:prSet/>
      <dgm:spPr/>
      <dgm:t>
        <a:bodyPr/>
        <a:lstStyle/>
        <a:p>
          <a:endParaRPr lang="fr-FR"/>
        </a:p>
      </dgm:t>
    </dgm:pt>
    <dgm:pt modelId="{EE8EDE80-056A-1047-89D8-C237E12954B3}">
      <dgm:prSet/>
      <dgm:spPr/>
      <dgm:t>
        <a:bodyPr/>
        <a:lstStyle/>
        <a:p>
          <a:r>
            <a:rPr lang="el"/>
            <a:t>Άρθρα, </a:t>
          </a:r>
          <a:r>
            <a:rPr lang="el" err="1"/>
            <a:t>πρόθεση </a:t>
          </a:r>
          <a:r>
            <a:rPr lang="el"/>
            <a:t>, </a:t>
          </a:r>
          <a:r>
            <a:rPr lang="el" err="1"/>
            <a:t>σύνδεσμοι </a:t>
          </a:r>
          <a:r>
            <a:rPr lang="el"/>
            <a:t>κ.λπ.</a:t>
          </a:r>
        </a:p>
      </dgm:t>
    </dgm:pt>
    <dgm:pt modelId="{391A91A1-618C-2747-A3B7-CB93CBC8EC7E}" type="parTrans" cxnId="{53B45D33-B325-BE48-B4E9-AB1D8D82AEDD}">
      <dgm:prSet/>
      <dgm:spPr/>
      <dgm:t>
        <a:bodyPr/>
        <a:lstStyle/>
        <a:p>
          <a:endParaRPr lang="fr-FR"/>
        </a:p>
      </dgm:t>
    </dgm:pt>
    <dgm:pt modelId="{6A9F8AC8-A6E6-3942-9868-0878E5FA3BFC}" type="sibTrans" cxnId="{53B45D33-B325-BE48-B4E9-AB1D8D82AEDD}">
      <dgm:prSet/>
      <dgm:spPr/>
      <dgm:t>
        <a:bodyPr/>
        <a:lstStyle/>
        <a:p>
          <a:endParaRPr lang="fr-FR"/>
        </a:p>
      </dgm:t>
    </dgm:pt>
    <dgm:pt modelId="{9806E86E-C4D5-B148-919B-6ECC95DFA6D4}" type="pres">
      <dgm:prSet presAssocID="{F249AF7A-D847-CA4F-B8AD-A8E823C8692C}" presName="diagram" presStyleCnt="0">
        <dgm:presLayoutVars>
          <dgm:dir/>
          <dgm:resizeHandles val="exact"/>
        </dgm:presLayoutVars>
      </dgm:prSet>
      <dgm:spPr/>
    </dgm:pt>
    <dgm:pt modelId="{AC8C8A12-AF65-8F44-A1E2-8E898ED97691}" type="pres">
      <dgm:prSet presAssocID="{AA791F49-A480-464E-93DA-8DFFD3D674E8}" presName="node" presStyleLbl="node1" presStyleIdx="0" presStyleCnt="4">
        <dgm:presLayoutVars>
          <dgm:bulletEnabled val="1"/>
        </dgm:presLayoutVars>
      </dgm:prSet>
      <dgm:spPr/>
    </dgm:pt>
    <dgm:pt modelId="{63D72CB2-6415-8142-899C-5CA36FFB42D0}" type="pres">
      <dgm:prSet presAssocID="{D0508D33-D4D7-2043-9B4C-D70F217A12BA}" presName="sibTrans" presStyleCnt="0"/>
      <dgm:spPr/>
    </dgm:pt>
    <dgm:pt modelId="{5DD8350E-52D1-0944-92EF-4433C7B46E91}" type="pres">
      <dgm:prSet presAssocID="{DFA39E31-7A7D-7D4F-A83F-8BB72A0470B6}" presName="node" presStyleLbl="node1" presStyleIdx="1" presStyleCnt="4">
        <dgm:presLayoutVars>
          <dgm:bulletEnabled val="1"/>
        </dgm:presLayoutVars>
      </dgm:prSet>
      <dgm:spPr/>
    </dgm:pt>
    <dgm:pt modelId="{BDE6562F-805B-804F-89F1-0C8E247D3DCC}" type="pres">
      <dgm:prSet presAssocID="{38C12D7E-3F66-324B-8ABD-61CEAAACA454}" presName="sibTrans" presStyleCnt="0"/>
      <dgm:spPr/>
    </dgm:pt>
    <dgm:pt modelId="{0B254466-87D3-B145-80B4-226FCBD3A3C4}" type="pres">
      <dgm:prSet presAssocID="{E858CA52-CA3A-FE45-A25E-4B839D26039C}" presName="node" presStyleLbl="node1" presStyleIdx="2" presStyleCnt="4">
        <dgm:presLayoutVars>
          <dgm:bulletEnabled val="1"/>
        </dgm:presLayoutVars>
      </dgm:prSet>
      <dgm:spPr/>
    </dgm:pt>
    <dgm:pt modelId="{A56D1628-0F2D-C541-BA70-18022A9D2F14}" type="pres">
      <dgm:prSet presAssocID="{9A7D8374-943E-7C43-8C2B-48F1DDB2CCA2}" presName="sibTrans" presStyleCnt="0"/>
      <dgm:spPr/>
    </dgm:pt>
    <dgm:pt modelId="{5960FE89-EB2E-6442-802F-963594F0ADFE}" type="pres">
      <dgm:prSet presAssocID="{597B59D3-A71E-3A4C-B16E-FB20FC102039}" presName="node" presStyleLbl="node1" presStyleIdx="3" presStyleCnt="4">
        <dgm:presLayoutVars>
          <dgm:bulletEnabled val="1"/>
        </dgm:presLayoutVars>
      </dgm:prSet>
      <dgm:spPr/>
    </dgm:pt>
  </dgm:ptLst>
  <dgm:cxnLst>
    <dgm:cxn modelId="{40105127-8556-6A40-99A5-9F48EA8A3C7C}" type="presOf" srcId="{F249AF7A-D847-CA4F-B8AD-A8E823C8692C}" destId="{9806E86E-C4D5-B148-919B-6ECC95DFA6D4}" srcOrd="0" destOrd="0" presId="urn:microsoft.com/office/officeart/2005/8/layout/default"/>
    <dgm:cxn modelId="{C2B33D28-E061-BE4A-81D8-BD68F696C45A}" type="presOf" srcId="{81F83DC0-C2C2-AB43-811B-ABD99F8A3087}" destId="{5DD8350E-52D1-0944-92EF-4433C7B46E91}" srcOrd="0" destOrd="2" presId="urn:microsoft.com/office/officeart/2005/8/layout/default"/>
    <dgm:cxn modelId="{9A6CCD2B-6A1A-7543-87AC-1D1906CE6209}" type="presOf" srcId="{EE8EDE80-056A-1047-89D8-C237E12954B3}" destId="{0B254466-87D3-B145-80B4-226FCBD3A3C4}" srcOrd="0" destOrd="1" presId="urn:microsoft.com/office/officeart/2005/8/layout/default"/>
    <dgm:cxn modelId="{53B45D33-B325-BE48-B4E9-AB1D8D82AEDD}" srcId="{E858CA52-CA3A-FE45-A25E-4B839D26039C}" destId="{EE8EDE80-056A-1047-89D8-C237E12954B3}" srcOrd="0" destOrd="0" parTransId="{391A91A1-618C-2747-A3B7-CB93CBC8EC7E}" sibTransId="{6A9F8AC8-A6E6-3942-9868-0878E5FA3BFC}"/>
    <dgm:cxn modelId="{A002A75C-DAA5-1246-B2C3-398FBACC4000}" type="presOf" srcId="{597B59D3-A71E-3A4C-B16E-FB20FC102039}" destId="{5960FE89-EB2E-6442-802F-963594F0ADFE}" srcOrd="0" destOrd="0" presId="urn:microsoft.com/office/officeart/2005/8/layout/default"/>
    <dgm:cxn modelId="{EC87C964-E130-1646-8810-C69CC07217F1}" srcId="{DFA39E31-7A7D-7D4F-A83F-8BB72A0470B6}" destId="{81F83DC0-C2C2-AB43-811B-ABD99F8A3087}" srcOrd="1" destOrd="0" parTransId="{D4AA0475-838F-4241-9D84-BE87F8F809E2}" sibTransId="{E91DCE1D-222A-3B43-A16B-540D25ABAEC9}"/>
    <dgm:cxn modelId="{1C1AAE4F-B869-1E4A-BE75-515FCF54C8EE}" type="presOf" srcId="{DFA39E31-7A7D-7D4F-A83F-8BB72A0470B6}" destId="{5DD8350E-52D1-0944-92EF-4433C7B46E91}" srcOrd="0" destOrd="0" presId="urn:microsoft.com/office/officeart/2005/8/layout/default"/>
    <dgm:cxn modelId="{2F773375-A2A7-7E43-A6BE-DB13D7431033}" srcId="{597B59D3-A71E-3A4C-B16E-FB20FC102039}" destId="{677E3100-E3BB-3742-896C-55CA746A2536}" srcOrd="0" destOrd="0" parTransId="{5EA47BFC-F68F-5146-8535-23CEB539979B}" sibTransId="{280D3A40-8CA8-E249-A8F0-B39154A3FA4E}"/>
    <dgm:cxn modelId="{23BA9089-BC9A-5E4D-92AB-197E3FD34688}" srcId="{F249AF7A-D847-CA4F-B8AD-A8E823C8692C}" destId="{E858CA52-CA3A-FE45-A25E-4B839D26039C}" srcOrd="2" destOrd="0" parTransId="{B683C7D6-CB0D-4148-B876-F52679548C3D}" sibTransId="{9A7D8374-943E-7C43-8C2B-48F1DDB2CCA2}"/>
    <dgm:cxn modelId="{A8E9E28F-42A8-C54A-87AB-32B459C28AC4}" type="presOf" srcId="{AA791F49-A480-464E-93DA-8DFFD3D674E8}" destId="{AC8C8A12-AF65-8F44-A1E2-8E898ED97691}" srcOrd="0" destOrd="0" presId="urn:microsoft.com/office/officeart/2005/8/layout/default"/>
    <dgm:cxn modelId="{D2A88296-9CDE-464E-95C5-F5D412C5CD17}" srcId="{F249AF7A-D847-CA4F-B8AD-A8E823C8692C}" destId="{AA791F49-A480-464E-93DA-8DFFD3D674E8}" srcOrd="0" destOrd="0" parTransId="{1219A00B-5B35-3B4C-97B7-CC7E58E885A5}" sibTransId="{D0508D33-D4D7-2043-9B4C-D70F217A12BA}"/>
    <dgm:cxn modelId="{3BA08998-9B5A-084A-BC13-68D83034A0A1}" type="presOf" srcId="{9F9A143A-9695-8F48-BEBE-38898C2A5616}" destId="{5DD8350E-52D1-0944-92EF-4433C7B46E91}" srcOrd="0" destOrd="1" presId="urn:microsoft.com/office/officeart/2005/8/layout/default"/>
    <dgm:cxn modelId="{5FDFD8AE-AD91-A549-ABF7-1A226C58F602}" type="presOf" srcId="{02880B52-875C-DB48-94BD-E684D69AF748}" destId="{AC8C8A12-AF65-8F44-A1E2-8E898ED97691}" srcOrd="0" destOrd="1" presId="urn:microsoft.com/office/officeart/2005/8/layout/default"/>
    <dgm:cxn modelId="{DC54E1C0-1E14-AE49-B960-EC5BD684747B}" srcId="{AA791F49-A480-464E-93DA-8DFFD3D674E8}" destId="{02880B52-875C-DB48-94BD-E684D69AF748}" srcOrd="0" destOrd="0" parTransId="{5614C609-284E-4147-B89C-6DCBCA32E6EA}" sibTransId="{DD7E847A-82DD-3240-9203-9EF2CD7EA236}"/>
    <dgm:cxn modelId="{63D418C9-6B07-F14F-881A-DA0A058B4AE9}" type="presOf" srcId="{E858CA52-CA3A-FE45-A25E-4B839D26039C}" destId="{0B254466-87D3-B145-80B4-226FCBD3A3C4}" srcOrd="0" destOrd="0" presId="urn:microsoft.com/office/officeart/2005/8/layout/default"/>
    <dgm:cxn modelId="{BDD1C9CB-9F42-3341-ACB5-07056B275034}" srcId="{F249AF7A-D847-CA4F-B8AD-A8E823C8692C}" destId="{597B59D3-A71E-3A4C-B16E-FB20FC102039}" srcOrd="3" destOrd="0" parTransId="{B04CF1BE-7BDC-8344-B92E-FE90D8E1851F}" sibTransId="{9D38AC7E-EDC8-6345-AFC6-0E60594994E3}"/>
    <dgm:cxn modelId="{8EEED5E9-FE3D-024D-B14B-4851EE2484A5}" srcId="{DFA39E31-7A7D-7D4F-A83F-8BB72A0470B6}" destId="{9F9A143A-9695-8F48-BEBE-38898C2A5616}" srcOrd="0" destOrd="0" parTransId="{14F9EAB0-B3E1-B74B-9832-81DD7F1FDA33}" sibTransId="{6623ACCD-9127-6744-8B50-D0494C856CB2}"/>
    <dgm:cxn modelId="{1ADB8DF6-1374-1246-9A61-156F15D6DDA8}" srcId="{F249AF7A-D847-CA4F-B8AD-A8E823C8692C}" destId="{DFA39E31-7A7D-7D4F-A83F-8BB72A0470B6}" srcOrd="1" destOrd="0" parTransId="{5B642DA1-495A-1B4E-ABE8-F5CEA022806E}" sibTransId="{38C12D7E-3F66-324B-8ABD-61CEAAACA454}"/>
    <dgm:cxn modelId="{1135EAFF-F720-1049-8D76-BD6B2A869ED2}" type="presOf" srcId="{677E3100-E3BB-3742-896C-55CA746A2536}" destId="{5960FE89-EB2E-6442-802F-963594F0ADFE}" srcOrd="0" destOrd="1" presId="urn:microsoft.com/office/officeart/2005/8/layout/default"/>
    <dgm:cxn modelId="{E8FF73BB-EFEC-694D-B054-D2CBE4F342AB}" type="presParOf" srcId="{9806E86E-C4D5-B148-919B-6ECC95DFA6D4}" destId="{AC8C8A12-AF65-8F44-A1E2-8E898ED97691}" srcOrd="0" destOrd="0" presId="urn:microsoft.com/office/officeart/2005/8/layout/default"/>
    <dgm:cxn modelId="{6A22091C-EA32-8B47-B9FF-BFA4F742F13A}" type="presParOf" srcId="{9806E86E-C4D5-B148-919B-6ECC95DFA6D4}" destId="{63D72CB2-6415-8142-899C-5CA36FFB42D0}" srcOrd="1" destOrd="0" presId="urn:microsoft.com/office/officeart/2005/8/layout/default"/>
    <dgm:cxn modelId="{6F5B64FE-C301-374E-A933-6AA6A9B3D56E}" type="presParOf" srcId="{9806E86E-C4D5-B148-919B-6ECC95DFA6D4}" destId="{5DD8350E-52D1-0944-92EF-4433C7B46E91}" srcOrd="2" destOrd="0" presId="urn:microsoft.com/office/officeart/2005/8/layout/default"/>
    <dgm:cxn modelId="{9E5CA38A-9A9F-7144-931C-2031B54FBE5B}" type="presParOf" srcId="{9806E86E-C4D5-B148-919B-6ECC95DFA6D4}" destId="{BDE6562F-805B-804F-89F1-0C8E247D3DCC}" srcOrd="3" destOrd="0" presId="urn:microsoft.com/office/officeart/2005/8/layout/default"/>
    <dgm:cxn modelId="{E5715905-D91A-3C4F-8666-B3C6E3311C6B}" type="presParOf" srcId="{9806E86E-C4D5-B148-919B-6ECC95DFA6D4}" destId="{0B254466-87D3-B145-80B4-226FCBD3A3C4}" srcOrd="4" destOrd="0" presId="urn:microsoft.com/office/officeart/2005/8/layout/default"/>
    <dgm:cxn modelId="{D2A45238-A066-7644-872A-8ACC1AE3B3CF}" type="presParOf" srcId="{9806E86E-C4D5-B148-919B-6ECC95DFA6D4}" destId="{A56D1628-0F2D-C541-BA70-18022A9D2F14}" srcOrd="5" destOrd="0" presId="urn:microsoft.com/office/officeart/2005/8/layout/default"/>
    <dgm:cxn modelId="{6F538CAF-62D0-D74D-A8F1-FC9A581E44F6}" type="presParOf" srcId="{9806E86E-C4D5-B148-919B-6ECC95DFA6D4}" destId="{5960FE89-EB2E-6442-802F-963594F0ADFE}" srcOrd="6" destOrd="0" presId="urn:microsoft.com/office/officeart/2005/8/layout/default"/>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6E9FAC2C-83F1-B84A-A385-A66F88712B94}">
      <dsp:nvSpPr>
        <dsp:cNvPr id="0" name=""/>
        <dsp:cNvSpPr/>
      </dsp:nvSpPr>
      <dsp:spPr>
        <a:xfrm>
          <a:off x="0" y="341054"/>
          <a:ext cx="11273050" cy="1275750"/>
        </a:xfrm>
        <a:prstGeom prst="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74914" tIns="374904" rIns="874914" bIns="128016" numCol="1" spcCol="1270" anchor="t" anchorCtr="0">
          <a:noAutofit/>
        </a:bodyPr>
        <a:lstStyle/>
        <a:p>
          <a:pPr marL="171450" lvl="1" indent="-171450" algn="l" defTabSz="800100">
            <a:lnSpc>
              <a:spcPct val="90000"/>
            </a:lnSpc>
            <a:spcBef>
              <a:spcPct val="0"/>
            </a:spcBef>
            <a:spcAft>
              <a:spcPct val="15000"/>
            </a:spcAft>
            <a:buChar char="•"/>
          </a:pPr>
          <a:r>
            <a:rPr lang="el" sz="1800" kern="1200"/>
            <a:t>Δεν είναι </a:t>
          </a:r>
          <a:r>
            <a:rPr lang="el" sz="1800" kern="1200" err="1"/>
            <a:t>ιδιαίτερο</a:t>
          </a:r>
          <a:r>
            <a:rPr lang="el" sz="1800" kern="1200"/>
            <a:t> </a:t>
          </a:r>
          <a:r>
            <a:rPr lang="el" sz="1800" kern="1200" err="1"/>
            <a:t>δυσκολία </a:t>
          </a:r>
          <a:r>
            <a:rPr lang="el" sz="1800" kern="1200"/>
            <a:t>στο IDD</a:t>
          </a:r>
        </a:p>
        <a:p>
          <a:pPr marL="171450" lvl="1" indent="-171450" algn="l" defTabSz="800100">
            <a:lnSpc>
              <a:spcPct val="90000"/>
            </a:lnSpc>
            <a:spcBef>
              <a:spcPct val="0"/>
            </a:spcBef>
            <a:spcAft>
              <a:spcPct val="15000"/>
            </a:spcAft>
            <a:buChar char="•"/>
          </a:pPr>
          <a:r>
            <a:rPr lang="el" sz="1800" kern="1200"/>
            <a:t>Διαδικασία </a:t>
          </a:r>
          <a:r>
            <a:rPr lang="el" sz="1800" kern="1200" err="1"/>
            <a:t>απόκτησης</a:t>
          </a:r>
          <a:r>
            <a:rPr lang="el" sz="1800" kern="1200"/>
            <a:t> </a:t>
          </a:r>
          <a:r>
            <a:rPr lang="el" sz="1800" kern="1200" err="1"/>
            <a:t>θες</a:t>
          </a:r>
          <a:r>
            <a:rPr lang="el" sz="1800" kern="1200"/>
            <a:t> </a:t>
          </a:r>
          <a:r>
            <a:rPr lang="el" sz="1800" kern="1200" err="1"/>
            <a:t>κανόνες</a:t>
          </a:r>
          <a:r>
            <a:rPr lang="el" sz="1800" kern="1200"/>
            <a:t> </a:t>
          </a:r>
          <a:r>
            <a:rPr lang="el" sz="1800" kern="1200" err="1"/>
            <a:t>παρόμοιο </a:t>
          </a:r>
          <a:r>
            <a:rPr lang="el" sz="1800" kern="1200"/>
            <a:t>με </a:t>
          </a:r>
          <a:r>
            <a:rPr lang="el" sz="1800" kern="1200" err="1"/>
            <a:t>αυτό</a:t>
          </a:r>
          <a:r>
            <a:rPr lang="el" sz="1800" kern="1200"/>
            <a:t> </a:t>
          </a:r>
          <a:r>
            <a:rPr lang="el" sz="1800" kern="1200" err="1"/>
            <a:t>παρατηρείται </a:t>
          </a:r>
          <a:r>
            <a:rPr lang="el" sz="1800" kern="1200"/>
            <a:t>σε </a:t>
          </a:r>
          <a:r>
            <a:rPr lang="el" sz="1800" kern="1200" err="1"/>
            <a:t>τυπικό</a:t>
          </a:r>
          <a:r>
            <a:rPr lang="el" sz="1800" kern="1200"/>
            <a:t> </a:t>
          </a:r>
          <a:r>
            <a:rPr lang="el" sz="1800" kern="1200" err="1"/>
            <a:t>παιδιά</a:t>
          </a:r>
          <a:r>
            <a:rPr lang="el" sz="1800" kern="1200"/>
            <a:t> </a:t>
          </a:r>
          <a:r>
            <a:rPr lang="el" sz="1800" kern="1200" err="1"/>
            <a:t>από </a:t>
          </a:r>
          <a:r>
            <a:rPr lang="el" sz="1800" kern="1200"/>
            <a:t>το στάδιο των πρώτων </a:t>
          </a:r>
          <a:r>
            <a:rPr lang="el" sz="1800" kern="1200" err="1"/>
            <a:t>εκφωνήσεων</a:t>
          </a:r>
          <a:endParaRPr lang="fr-FR" sz="1800" kern="1200"/>
        </a:p>
      </dsp:txBody>
      <dsp:txXfrm>
        <a:off x="0" y="341054"/>
        <a:ext cx="11273050" cy="1275750"/>
      </dsp:txXfrm>
    </dsp:sp>
    <dsp:sp modelId="{6DB1BF1D-251F-4646-8E8C-F1D68F7FE045}">
      <dsp:nvSpPr>
        <dsp:cNvPr id="0" name=""/>
        <dsp:cNvSpPr/>
      </dsp:nvSpPr>
      <dsp:spPr>
        <a:xfrm>
          <a:off x="563652" y="75374"/>
          <a:ext cx="7891135" cy="531360"/>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98266" tIns="0" rIns="298266" bIns="0" numCol="1" spcCol="1270" anchor="ctr" anchorCtr="0">
          <a:noAutofit/>
        </a:bodyPr>
        <a:lstStyle/>
        <a:p>
          <a:pPr marL="0" lvl="0" indent="0" algn="l" defTabSz="800100">
            <a:lnSpc>
              <a:spcPct val="90000"/>
            </a:lnSpc>
            <a:spcBef>
              <a:spcPct val="0"/>
            </a:spcBef>
            <a:spcAft>
              <a:spcPct val="35000"/>
            </a:spcAft>
            <a:buNone/>
          </a:pPr>
          <a:r>
            <a:rPr lang="el" sz="1800" kern="1200" err="1"/>
            <a:t>Σειρά </a:t>
          </a:r>
          <a:endParaRPr lang="fr-FR" sz="1800" kern="1200"/>
        </a:p>
      </dsp:txBody>
      <dsp:txXfrm>
        <a:off x="589591" y="101313"/>
        <a:ext cx="7839257" cy="479482"/>
      </dsp:txXfrm>
    </dsp:sp>
    <dsp:sp modelId="{759C6F96-94ED-5342-9E93-A7BC11867AF9}">
      <dsp:nvSpPr>
        <dsp:cNvPr id="0" name=""/>
        <dsp:cNvSpPr/>
      </dsp:nvSpPr>
      <dsp:spPr>
        <a:xfrm>
          <a:off x="0" y="1979684"/>
          <a:ext cx="11273050" cy="1275750"/>
        </a:xfrm>
        <a:prstGeom prst="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74914" tIns="374904" rIns="874914" bIns="128016" numCol="1" spcCol="1270" anchor="t" anchorCtr="0">
          <a:noAutofit/>
        </a:bodyPr>
        <a:lstStyle/>
        <a:p>
          <a:pPr marL="171450" lvl="1" indent="-171450" algn="l" defTabSz="800100">
            <a:lnSpc>
              <a:spcPct val="90000"/>
            </a:lnSpc>
            <a:spcBef>
              <a:spcPct val="0"/>
            </a:spcBef>
            <a:spcAft>
              <a:spcPct val="15000"/>
            </a:spcAft>
            <a:buChar char="•"/>
          </a:pPr>
          <a:r>
            <a:rPr lang="el" sz="1800" kern="1200" err="1"/>
            <a:t>Σταθερά</a:t>
          </a:r>
          <a:r>
            <a:rPr lang="el" sz="1800" kern="1200"/>
            <a:t> </a:t>
          </a:r>
          <a:r>
            <a:rPr lang="el" sz="1800" kern="1200" err="1"/>
            <a:t>αύξηση </a:t>
          </a:r>
          <a:r>
            <a:rPr lang="el" sz="1800" kern="1200"/>
            <a:t>της </a:t>
          </a:r>
          <a:r>
            <a:rPr lang="el" sz="1800" kern="1200" err="1"/>
            <a:t>διάρκειας </a:t>
          </a:r>
          <a:r>
            <a:rPr lang="el" sz="1800" kern="1200"/>
            <a:t>των </a:t>
          </a:r>
          <a:r>
            <a:rPr lang="el" sz="1800" kern="1200" err="1"/>
            <a:t>δηλώσεων </a:t>
          </a:r>
          <a:r>
            <a:rPr lang="el" sz="1800" kern="1200"/>
            <a:t>έως την </a:t>
          </a:r>
          <a:r>
            <a:rPr lang="el" sz="1800" kern="1200" err="1"/>
            <a:t>ηλικία </a:t>
          </a:r>
          <a:r>
            <a:rPr lang="el" sz="1800" kern="1200"/>
            <a:t>των 12-14 ετών, </a:t>
          </a:r>
          <a:r>
            <a:rPr lang="el" sz="1800" kern="1200" err="1"/>
            <a:t>ακολουθούμενη </a:t>
          </a:r>
          <a:r>
            <a:rPr lang="el" sz="1800" kern="1200"/>
            <a:t>από </a:t>
          </a:r>
          <a:r>
            <a:rPr lang="el" sz="1800" kern="1200" err="1"/>
            <a:t>σημαντική</a:t>
          </a:r>
          <a:r>
            <a:rPr lang="el" sz="1800" kern="1200"/>
            <a:t> </a:t>
          </a:r>
          <a:r>
            <a:rPr lang="el" sz="1800" kern="1200" err="1"/>
            <a:t>επιβράδυνση </a:t>
          </a:r>
          <a:r>
            <a:rPr lang="el" sz="1800" kern="1200"/>
            <a:t>σε </a:t>
          </a:r>
          <a:r>
            <a:rPr lang="el" sz="1800" kern="1200" err="1"/>
            <a:t>εξέλιξη </a:t>
          </a:r>
          <a:r>
            <a:rPr lang="el" sz="1800" kern="1200"/>
            <a:t>ή </a:t>
          </a:r>
          <a:r>
            <a:rPr lang="el" sz="1800" kern="1200" err="1"/>
            <a:t>ακόμα και </a:t>
          </a:r>
          <a:r>
            <a:rPr lang="el" sz="1800" kern="1200"/>
            <a:t>στασιμότητα</a:t>
          </a:r>
        </a:p>
        <a:p>
          <a:pPr marL="171450" lvl="1" indent="-171450" algn="l" defTabSz="800100">
            <a:lnSpc>
              <a:spcPct val="90000"/>
            </a:lnSpc>
            <a:spcBef>
              <a:spcPct val="0"/>
            </a:spcBef>
            <a:spcAft>
              <a:spcPct val="15000"/>
            </a:spcAft>
            <a:buChar char="•"/>
          </a:pPr>
          <a:r>
            <a:rPr lang="el" sz="1800" kern="1200"/>
            <a:t>Στασιμότητα της </a:t>
          </a:r>
          <a:r>
            <a:rPr lang="el" sz="1800" kern="1200" err="1"/>
            <a:t>κατανόησης</a:t>
          </a:r>
          <a:r>
            <a:rPr lang="el" sz="1800" kern="1200"/>
            <a:t> </a:t>
          </a:r>
          <a:r>
            <a:rPr lang="el" sz="1800" kern="1200" err="1"/>
            <a:t>δεξιότητες</a:t>
          </a:r>
          <a:r>
            <a:rPr lang="el" sz="1800" kern="1200"/>
            <a:t> </a:t>
          </a:r>
          <a:r>
            <a:rPr lang="el" sz="1800" kern="1200" err="1"/>
            <a:t>μεταξύ </a:t>
          </a:r>
          <a:r>
            <a:rPr lang="el" sz="1800" kern="1200"/>
            <a:t>της εφηβείας και </a:t>
          </a:r>
          <a:r>
            <a:rPr lang="el" sz="1800" kern="1200" err="1"/>
            <a:t>της ενηλικίωσης</a:t>
          </a:r>
          <a:endParaRPr lang="fr-FR" sz="1800" kern="1200"/>
        </a:p>
      </dsp:txBody>
      <dsp:txXfrm>
        <a:off x="0" y="1979684"/>
        <a:ext cx="11273050" cy="1275750"/>
      </dsp:txXfrm>
    </dsp:sp>
    <dsp:sp modelId="{98038DE5-5CA4-9D43-9F86-4564A5538790}">
      <dsp:nvSpPr>
        <dsp:cNvPr id="0" name=""/>
        <dsp:cNvSpPr/>
      </dsp:nvSpPr>
      <dsp:spPr>
        <a:xfrm>
          <a:off x="563652" y="1714004"/>
          <a:ext cx="7891135" cy="531360"/>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98266" tIns="0" rIns="298266" bIns="0" numCol="1" spcCol="1270" anchor="ctr" anchorCtr="0">
          <a:noAutofit/>
        </a:bodyPr>
        <a:lstStyle/>
        <a:p>
          <a:pPr marL="0" lvl="0" indent="0" algn="l" defTabSz="800100">
            <a:lnSpc>
              <a:spcPct val="90000"/>
            </a:lnSpc>
            <a:spcBef>
              <a:spcPct val="0"/>
            </a:spcBef>
            <a:spcAft>
              <a:spcPct val="35000"/>
            </a:spcAft>
            <a:buNone/>
          </a:pPr>
          <a:r>
            <a:rPr lang="el" sz="1800" kern="1200" err="1"/>
            <a:t>Εκφραση</a:t>
          </a:r>
          <a:r>
            <a:rPr lang="el" sz="1800" kern="1200"/>
            <a:t> </a:t>
          </a:r>
          <a:r>
            <a:rPr lang="el" sz="1800" kern="1200" err="1"/>
            <a:t>μήκος </a:t>
          </a:r>
          <a:r>
            <a:rPr lang="el" sz="1800" kern="1200"/>
            <a:t>και </a:t>
          </a:r>
          <a:r>
            <a:rPr lang="el" sz="1800" kern="1200" err="1"/>
            <a:t>συντακτικό</a:t>
          </a:r>
          <a:r>
            <a:rPr lang="el" sz="1800" kern="1200"/>
            <a:t> </a:t>
          </a:r>
          <a:r>
            <a:rPr lang="el" sz="1800" kern="1200" err="1"/>
            <a:t>περίπλοκο</a:t>
          </a:r>
          <a:endParaRPr lang="fr-FR" sz="1800" kern="1200"/>
        </a:p>
      </dsp:txBody>
      <dsp:txXfrm>
        <a:off x="589591" y="1739943"/>
        <a:ext cx="7839257" cy="479482"/>
      </dsp:txXfrm>
    </dsp:sp>
    <dsp:sp modelId="{CE9F1BDD-5ADA-6C49-B84E-90F94A247CC5}">
      <dsp:nvSpPr>
        <dsp:cNvPr id="0" name=""/>
        <dsp:cNvSpPr/>
      </dsp:nvSpPr>
      <dsp:spPr>
        <a:xfrm>
          <a:off x="0" y="3618314"/>
          <a:ext cx="11273050" cy="1020600"/>
        </a:xfrm>
        <a:prstGeom prst="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74914" tIns="374904" rIns="874914" bIns="128016" numCol="1" spcCol="1270" anchor="t" anchorCtr="0">
          <a:noAutofit/>
        </a:bodyPr>
        <a:lstStyle/>
        <a:p>
          <a:pPr marL="171450" lvl="1" indent="-171450" algn="l" defTabSz="800100">
            <a:lnSpc>
              <a:spcPct val="90000"/>
            </a:lnSpc>
            <a:spcBef>
              <a:spcPct val="0"/>
            </a:spcBef>
            <a:spcAft>
              <a:spcPct val="15000"/>
            </a:spcAft>
            <a:buChar char="•"/>
          </a:pPr>
          <a:r>
            <a:rPr lang="el" sz="1800" kern="1200"/>
            <a:t>Τα μοτίβα </a:t>
          </a:r>
          <a:r>
            <a:rPr lang="el" sz="1800" kern="1200" err="1"/>
            <a:t>ελλιπή</a:t>
          </a:r>
          <a:r>
            <a:rPr lang="el" sz="1800" kern="1200"/>
            <a:t> </a:t>
          </a:r>
          <a:r>
            <a:rPr lang="el" sz="1800" kern="1200" err="1"/>
            <a:t>όποια και αν είναι </a:t>
          </a:r>
          <a:r>
            <a:rPr lang="el" sz="1800" kern="1200"/>
            <a:t>η </a:t>
          </a:r>
          <a:r>
            <a:rPr lang="el" sz="1800" kern="1200" err="1"/>
            <a:t>χρονολογική</a:t>
          </a:r>
          <a:r>
            <a:rPr lang="el" sz="1800" kern="1200"/>
            <a:t> </a:t>
          </a:r>
          <a:r>
            <a:rPr lang="el" sz="1800" kern="1200" err="1"/>
            <a:t>ηλικία</a:t>
          </a:r>
          <a:endParaRPr lang="fr-FR" sz="1800" kern="1200"/>
        </a:p>
        <a:p>
          <a:pPr marL="171450" lvl="1" indent="-171450" algn="l" defTabSz="800100">
            <a:lnSpc>
              <a:spcPct val="90000"/>
            </a:lnSpc>
            <a:spcBef>
              <a:spcPct val="0"/>
            </a:spcBef>
            <a:spcAft>
              <a:spcPct val="15000"/>
            </a:spcAft>
            <a:buChar char="•"/>
          </a:pPr>
          <a:r>
            <a:rPr lang="el" sz="1800" kern="1200" err="1"/>
            <a:t>Κατανόηση </a:t>
          </a:r>
          <a:r>
            <a:rPr lang="el" sz="1800" kern="1200"/>
            <a:t>και παραγωγή </a:t>
          </a:r>
          <a:r>
            <a:rPr lang="el" sz="1800" kern="1200" err="1"/>
            <a:t>παρακάτω</a:t>
          </a:r>
          <a:r>
            <a:rPr lang="el" sz="1800" kern="1200"/>
            <a:t> </a:t>
          </a:r>
          <a:r>
            <a:rPr lang="el" sz="1800" kern="1200" err="1"/>
            <a:t>τι</a:t>
          </a:r>
          <a:r>
            <a:rPr lang="el" sz="1800" kern="1200"/>
            <a:t> </a:t>
          </a:r>
          <a:r>
            <a:rPr lang="el" sz="1800" kern="1200" err="1"/>
            <a:t>είναι</a:t>
          </a:r>
          <a:r>
            <a:rPr lang="el" sz="1800" kern="1200"/>
            <a:t> </a:t>
          </a:r>
          <a:r>
            <a:rPr lang="el" sz="1800" kern="1200" err="1"/>
            <a:t>αναμενόμενος</a:t>
          </a:r>
          <a:r>
            <a:rPr lang="el" sz="1800" kern="1200"/>
            <a:t> </a:t>
          </a:r>
          <a:r>
            <a:rPr lang="el" sz="1800" kern="1200" err="1"/>
            <a:t>με βάση </a:t>
          </a:r>
          <a:r>
            <a:rPr lang="el" sz="1800" kern="1200"/>
            <a:t>τη μη λεκτική νοητική </a:t>
          </a:r>
          <a:r>
            <a:rPr lang="el" sz="1800" kern="1200" err="1"/>
            <a:t>ηλικία</a:t>
          </a:r>
          <a:endParaRPr lang="fr-FR" sz="1800" kern="1200"/>
        </a:p>
      </dsp:txBody>
      <dsp:txXfrm>
        <a:off x="0" y="3618314"/>
        <a:ext cx="11273050" cy="1020600"/>
      </dsp:txXfrm>
    </dsp:sp>
    <dsp:sp modelId="{64232A29-63A7-1D45-AE6E-DA7D582C08DE}">
      <dsp:nvSpPr>
        <dsp:cNvPr id="0" name=""/>
        <dsp:cNvSpPr/>
      </dsp:nvSpPr>
      <dsp:spPr>
        <a:xfrm>
          <a:off x="563652" y="3352634"/>
          <a:ext cx="7891135" cy="531360"/>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98266" tIns="0" rIns="298266" bIns="0" numCol="1" spcCol="1270" anchor="ctr" anchorCtr="0">
          <a:noAutofit/>
        </a:bodyPr>
        <a:lstStyle/>
        <a:p>
          <a:pPr marL="0" lvl="0" indent="0" algn="l" defTabSz="800100">
            <a:lnSpc>
              <a:spcPct val="90000"/>
            </a:lnSpc>
            <a:spcBef>
              <a:spcPct val="0"/>
            </a:spcBef>
            <a:spcAft>
              <a:spcPct val="35000"/>
            </a:spcAft>
            <a:buNone/>
          </a:pPr>
          <a:r>
            <a:rPr lang="el" sz="1800" kern="1200"/>
            <a:t>Γραμματική </a:t>
          </a:r>
          <a:r>
            <a:rPr lang="el" sz="1800" kern="1200" err="1"/>
            <a:t>μορφολογία</a:t>
          </a:r>
          <a:endParaRPr lang="fr-FR" sz="1800" kern="1200"/>
        </a:p>
      </dsp:txBody>
      <dsp:txXfrm>
        <a:off x="589591" y="3378573"/>
        <a:ext cx="7839257" cy="479482"/>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C8C8A12-AF65-8F44-A1E2-8E898ED97691}">
      <dsp:nvSpPr>
        <dsp:cNvPr id="0" name=""/>
        <dsp:cNvSpPr/>
      </dsp:nvSpPr>
      <dsp:spPr>
        <a:xfrm>
          <a:off x="176926" y="1528"/>
          <a:ext cx="3614188" cy="2168513"/>
        </a:xfrm>
        <a:prstGeom prst="rect">
          <a:avLst/>
        </a:prstGeom>
        <a:solidFill>
          <a:schemeClr val="accent1">
            <a:shade val="80000"/>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7630" tIns="87630" rIns="87630" bIns="87630" numCol="1" spcCol="1270" anchor="t" anchorCtr="0">
          <a:noAutofit/>
        </a:bodyPr>
        <a:lstStyle/>
        <a:p>
          <a:pPr marL="0" lvl="0" indent="0" algn="l" defTabSz="1022350">
            <a:lnSpc>
              <a:spcPct val="90000"/>
            </a:lnSpc>
            <a:spcBef>
              <a:spcPct val="0"/>
            </a:spcBef>
            <a:spcAft>
              <a:spcPct val="35000"/>
            </a:spcAft>
            <a:buNone/>
          </a:pPr>
          <a:r>
            <a:rPr lang="el" sz="2300" kern="1200" err="1"/>
            <a:t>Συγκρότημα</a:t>
          </a:r>
          <a:r>
            <a:rPr lang="el" sz="2300" kern="1200"/>
            <a:t> </a:t>
          </a:r>
          <a:r>
            <a:rPr lang="el" sz="2300" kern="1200" err="1"/>
            <a:t>ανέντ</a:t>
          </a:r>
          <a:r>
            <a:rPr lang="el" sz="2300" kern="1200"/>
            <a:t> </a:t>
          </a:r>
          <a:r>
            <a:rPr lang="el" sz="2300" kern="1200" err="1"/>
            <a:t>επεξεργασμένα</a:t>
          </a:r>
          <a:r>
            <a:rPr lang="el" sz="2300" kern="1200"/>
            <a:t> </a:t>
          </a:r>
          <a:r>
            <a:rPr lang="el" sz="2300" kern="1200" err="1"/>
            <a:t>σύνταξη </a:t>
          </a:r>
          <a:r>
            <a:rPr lang="el" sz="2300" kern="1200"/>
            <a:t>δεν </a:t>
          </a:r>
          <a:r>
            <a:rPr lang="el" sz="2300" kern="1200" err="1"/>
            <a:t>αποκτήθηκε</a:t>
          </a:r>
          <a:endParaRPr lang="fr-FR" sz="2300" kern="1200"/>
        </a:p>
        <a:p>
          <a:pPr marL="171450" lvl="1" indent="-171450" algn="l" defTabSz="800100">
            <a:lnSpc>
              <a:spcPct val="90000"/>
            </a:lnSpc>
            <a:spcBef>
              <a:spcPct val="0"/>
            </a:spcBef>
            <a:spcAft>
              <a:spcPct val="15000"/>
            </a:spcAft>
            <a:buChar char="•"/>
          </a:pPr>
          <a:r>
            <a:rPr lang="el" sz="1800" kern="1200" err="1"/>
            <a:t>Έλλειψη </a:t>
          </a:r>
          <a:r>
            <a:rPr lang="el" sz="1800" kern="1200"/>
            <a:t>συντονισμού και υποταγής προτάσεων</a:t>
          </a:r>
        </a:p>
      </dsp:txBody>
      <dsp:txXfrm>
        <a:off x="176926" y="1528"/>
        <a:ext cx="3614188" cy="2168513"/>
      </dsp:txXfrm>
    </dsp:sp>
    <dsp:sp modelId="{5DD8350E-52D1-0944-92EF-4433C7B46E91}">
      <dsp:nvSpPr>
        <dsp:cNvPr id="0" name=""/>
        <dsp:cNvSpPr/>
      </dsp:nvSpPr>
      <dsp:spPr>
        <a:xfrm>
          <a:off x="4152533" y="1528"/>
          <a:ext cx="3614188" cy="2168513"/>
        </a:xfrm>
        <a:prstGeom prst="rect">
          <a:avLst/>
        </a:prstGeom>
        <a:solidFill>
          <a:schemeClr val="accent1">
            <a:shade val="80000"/>
            <a:hueOff val="-8560"/>
            <a:satOff val="-154"/>
            <a:lumOff val="776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7630" tIns="87630" rIns="87630" bIns="87630" numCol="1" spcCol="1270" anchor="t" anchorCtr="0">
          <a:noAutofit/>
        </a:bodyPr>
        <a:lstStyle/>
        <a:p>
          <a:pPr marL="0" lvl="0" indent="0" algn="l" defTabSz="1022350">
            <a:lnSpc>
              <a:spcPct val="90000"/>
            </a:lnSpc>
            <a:spcBef>
              <a:spcPct val="0"/>
            </a:spcBef>
            <a:spcAft>
              <a:spcPct val="35000"/>
            </a:spcAft>
            <a:buNone/>
          </a:pPr>
          <a:r>
            <a:rPr lang="el" sz="2300" kern="1200"/>
            <a:t>Παράλειψη γραμματικών </a:t>
          </a:r>
          <a:r>
            <a:rPr lang="el" sz="2300" kern="1200" err="1"/>
            <a:t>μορφωμάτων</a:t>
          </a:r>
          <a:endParaRPr lang="fr-FR" sz="2300" kern="1200"/>
        </a:p>
        <a:p>
          <a:pPr marL="171450" lvl="1" indent="-171450" algn="l" defTabSz="800100">
            <a:lnSpc>
              <a:spcPct val="90000"/>
            </a:lnSpc>
            <a:spcBef>
              <a:spcPct val="0"/>
            </a:spcBef>
            <a:spcAft>
              <a:spcPct val="15000"/>
            </a:spcAft>
            <a:buChar char="•"/>
          </a:pPr>
          <a:r>
            <a:rPr lang="el" sz="1800" kern="1200"/>
            <a:t>Λίγα σημάδια </a:t>
          </a:r>
          <a:r>
            <a:rPr lang="el" sz="1800" kern="1200" err="1"/>
            <a:t>φύλου </a:t>
          </a:r>
          <a:r>
            <a:rPr lang="el" sz="1800" kern="1200"/>
            <a:t>και </a:t>
          </a:r>
          <a:r>
            <a:rPr lang="el" sz="1800" kern="1200" err="1"/>
            <a:t>αριθμών σε ουσιαστικά </a:t>
          </a:r>
          <a:r>
            <a:rPr lang="el" sz="1800" kern="1200"/>
            <a:t>και επίθετα</a:t>
          </a:r>
        </a:p>
        <a:p>
          <a:pPr marL="171450" lvl="1" indent="-171450" algn="l" defTabSz="800100">
            <a:lnSpc>
              <a:spcPct val="90000"/>
            </a:lnSpc>
            <a:spcBef>
              <a:spcPct val="0"/>
            </a:spcBef>
            <a:spcAft>
              <a:spcPct val="15000"/>
            </a:spcAft>
            <a:buChar char="•"/>
          </a:pPr>
          <a:r>
            <a:rPr lang="el" sz="1800" kern="1200"/>
            <a:t>Λίγα σημάδια </a:t>
          </a:r>
          <a:r>
            <a:rPr lang="el" sz="1800" kern="1200" err="1"/>
            <a:t>αριθμού </a:t>
          </a:r>
          <a:r>
            <a:rPr lang="el" sz="1800" kern="1200"/>
            <a:t>και </a:t>
          </a:r>
          <a:r>
            <a:rPr lang="el" sz="1800" kern="1200" err="1"/>
            <a:t>χρόνου </a:t>
          </a:r>
          <a:r>
            <a:rPr lang="el" sz="1800" kern="1200"/>
            <a:t>στα </a:t>
          </a:r>
          <a:r>
            <a:rPr lang="el" sz="1800" kern="1200" err="1"/>
            <a:t>ρήματα </a:t>
          </a:r>
          <a:r>
            <a:rPr lang="el" sz="1800" kern="1200"/>
            <a:t>➝ </a:t>
          </a:r>
          <a:r>
            <a:rPr lang="el" sz="1800" kern="1200" err="1"/>
            <a:t>ανεπαρκής</a:t>
          </a:r>
          <a:r>
            <a:rPr lang="el" sz="1800" kern="1200"/>
            <a:t> </a:t>
          </a:r>
          <a:r>
            <a:rPr lang="el" sz="1800" kern="1200" err="1"/>
            <a:t>veb</a:t>
          </a:r>
          <a:r>
            <a:rPr lang="el" sz="1800" kern="1200"/>
            <a:t> </a:t>
          </a:r>
          <a:r>
            <a:rPr lang="el" sz="1800" kern="1200" err="1"/>
            <a:t>καμπές</a:t>
          </a:r>
          <a:endParaRPr lang="fr-FR" sz="1800" kern="1200"/>
        </a:p>
      </dsp:txBody>
      <dsp:txXfrm>
        <a:off x="4152533" y="1528"/>
        <a:ext cx="3614188" cy="2168513"/>
      </dsp:txXfrm>
    </dsp:sp>
    <dsp:sp modelId="{0B254466-87D3-B145-80B4-226FCBD3A3C4}">
      <dsp:nvSpPr>
        <dsp:cNvPr id="0" name=""/>
        <dsp:cNvSpPr/>
      </dsp:nvSpPr>
      <dsp:spPr>
        <a:xfrm>
          <a:off x="8128141" y="1528"/>
          <a:ext cx="3614188" cy="2168513"/>
        </a:xfrm>
        <a:prstGeom prst="rect">
          <a:avLst/>
        </a:prstGeom>
        <a:solidFill>
          <a:schemeClr val="accent1">
            <a:shade val="80000"/>
            <a:hueOff val="-17119"/>
            <a:satOff val="-308"/>
            <a:lumOff val="15521"/>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7630" tIns="87630" rIns="87630" bIns="87630" numCol="1" spcCol="1270" anchor="t" anchorCtr="0">
          <a:noAutofit/>
        </a:bodyPr>
        <a:lstStyle/>
        <a:p>
          <a:pPr marL="0" lvl="0" indent="0" algn="l" defTabSz="1022350">
            <a:lnSpc>
              <a:spcPct val="90000"/>
            </a:lnSpc>
            <a:spcBef>
              <a:spcPct val="0"/>
            </a:spcBef>
            <a:spcAft>
              <a:spcPct val="35000"/>
            </a:spcAft>
            <a:buNone/>
          </a:pPr>
          <a:r>
            <a:rPr lang="el" sz="2300" kern="1200" err="1"/>
            <a:t>Συχνή </a:t>
          </a:r>
          <a:r>
            <a:rPr lang="el" sz="2300" kern="1200"/>
            <a:t>παράλειψη </a:t>
          </a:r>
          <a:r>
            <a:rPr lang="el" sz="2300" kern="1200" err="1"/>
            <a:t>λειτουργίας</a:t>
          </a:r>
          <a:r>
            <a:rPr lang="el" sz="2300" kern="1200"/>
            <a:t> </a:t>
          </a:r>
          <a:r>
            <a:rPr lang="el" sz="2300" kern="1200" err="1"/>
            <a:t>λόγια</a:t>
          </a:r>
          <a:endParaRPr lang="fr-FR" sz="2300" kern="1200"/>
        </a:p>
        <a:p>
          <a:pPr marL="171450" lvl="1" indent="-171450" algn="l" defTabSz="800100">
            <a:lnSpc>
              <a:spcPct val="90000"/>
            </a:lnSpc>
            <a:spcBef>
              <a:spcPct val="0"/>
            </a:spcBef>
            <a:spcAft>
              <a:spcPct val="15000"/>
            </a:spcAft>
            <a:buChar char="•"/>
          </a:pPr>
          <a:r>
            <a:rPr lang="el" sz="1800" kern="1200"/>
            <a:t>Άρθρα, </a:t>
          </a:r>
          <a:r>
            <a:rPr lang="el" sz="1800" kern="1200" err="1"/>
            <a:t>πρόθεση </a:t>
          </a:r>
          <a:r>
            <a:rPr lang="el" sz="1800" kern="1200"/>
            <a:t>, </a:t>
          </a:r>
          <a:r>
            <a:rPr lang="el" sz="1800" kern="1200" err="1"/>
            <a:t>σύνδεσμοι </a:t>
          </a:r>
          <a:r>
            <a:rPr lang="el" sz="1800" kern="1200"/>
            <a:t>κ.λπ.</a:t>
          </a:r>
        </a:p>
      </dsp:txBody>
      <dsp:txXfrm>
        <a:off x="8128141" y="1528"/>
        <a:ext cx="3614188" cy="2168513"/>
      </dsp:txXfrm>
    </dsp:sp>
    <dsp:sp modelId="{5960FE89-EB2E-6442-802F-963594F0ADFE}">
      <dsp:nvSpPr>
        <dsp:cNvPr id="0" name=""/>
        <dsp:cNvSpPr/>
      </dsp:nvSpPr>
      <dsp:spPr>
        <a:xfrm>
          <a:off x="4152533" y="2531460"/>
          <a:ext cx="3614188" cy="2168513"/>
        </a:xfrm>
        <a:prstGeom prst="rect">
          <a:avLst/>
        </a:prstGeom>
        <a:solidFill>
          <a:schemeClr val="accent1">
            <a:shade val="80000"/>
            <a:hueOff val="-25679"/>
            <a:satOff val="-462"/>
            <a:lumOff val="23281"/>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87630" tIns="87630" rIns="87630" bIns="87630" numCol="1" spcCol="1270" anchor="t" anchorCtr="0">
          <a:noAutofit/>
        </a:bodyPr>
        <a:lstStyle/>
        <a:p>
          <a:pPr marL="0" lvl="0" indent="0" algn="l" defTabSz="1022350">
            <a:lnSpc>
              <a:spcPct val="90000"/>
            </a:lnSpc>
            <a:spcBef>
              <a:spcPct val="0"/>
            </a:spcBef>
            <a:spcAft>
              <a:spcPct val="35000"/>
            </a:spcAft>
            <a:buNone/>
          </a:pPr>
          <a:r>
            <a:rPr lang="el" sz="2300" kern="1200" err="1"/>
            <a:t>Επίπεδο </a:t>
          </a:r>
          <a:r>
            <a:rPr lang="el" sz="2300" kern="1200"/>
            <a:t>παραγωγής </a:t>
          </a:r>
          <a:r>
            <a:rPr lang="el" sz="2300" kern="1200" err="1"/>
            <a:t>παρακάτω</a:t>
          </a:r>
          <a:r>
            <a:rPr lang="el" sz="2300" kern="1200"/>
            <a:t> </a:t>
          </a:r>
          <a:r>
            <a:rPr lang="el" sz="2300" kern="1200" err="1"/>
            <a:t>κατανόηση</a:t>
          </a:r>
          <a:endParaRPr lang="fr-FR" sz="2300" kern="1200"/>
        </a:p>
        <a:p>
          <a:pPr marL="171450" lvl="1" indent="-171450" algn="l" defTabSz="800100">
            <a:lnSpc>
              <a:spcPct val="90000"/>
            </a:lnSpc>
            <a:spcBef>
              <a:spcPct val="0"/>
            </a:spcBef>
            <a:spcAft>
              <a:spcPct val="15000"/>
            </a:spcAft>
            <a:buChar char="•"/>
          </a:pPr>
          <a:r>
            <a:rPr lang="el" sz="1800" kern="1200" err="1"/>
            <a:t>Και </a:t>
          </a:r>
          <a:r>
            <a:rPr lang="el" sz="1800" kern="1200"/>
            <a:t>στη </a:t>
          </a:r>
          <a:r>
            <a:rPr lang="el" sz="1800" kern="1200" err="1"/>
            <a:t>σύνταξη </a:t>
          </a:r>
          <a:r>
            <a:rPr lang="el" sz="1800" kern="1200"/>
            <a:t>και στη </a:t>
          </a:r>
          <a:r>
            <a:rPr lang="el" sz="1800" kern="1200" err="1"/>
            <a:t>μορφολογία</a:t>
          </a:r>
          <a:endParaRPr lang="fr-FR" sz="1800" kern="1200"/>
        </a:p>
      </dsp:txBody>
      <dsp:txXfrm>
        <a:off x="4152533" y="2531460"/>
        <a:ext cx="3614188" cy="2168513"/>
      </dsp:txXfrm>
    </dsp:sp>
  </dsp:spTree>
</dsp:drawing>
</file>

<file path=ppt/diagrams/layout1.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05E6A7A-7886-47AF-B4D9-0F94E6F68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Στα άτομα με ΙΔΝ, οι μορφοσυντακτικές πτυχές της γλώσσας παραμένουν μια σημαντική δυσκολία. Η αναπτυξιακή καθυστέρηση που ήδη καταδεικνύεται σε παιδιά με IDD όσον αφορά την κατάκτηση των φωνολογικών και λεξιλογικο-σημασιολογικών πτυχών της γλώσσας παρατηρείται και σε μορφοσυντακτικό επίπεδο (Comblain &amp; Thibaut, 2009, 2020). Αν και οι περισσότερες μελέτες έχουν επικεντρωθεί σε παιδιά με σύνδρομο Down, 21 έχει βρεθεί ότι στις περισσότερες περιπτώσεις IDD, η συνδυαστική γλώσσα χαρακτηρίζεται από καθυστέρηση στη συντακτική έκφραση, αλλά και από σφάλματα παραγωγής, παραλείψεις και δυσκολίες στην κατανόηση γραμματικών μορφωμάτων (Chapman et al. ., 2002). Το μέσο μήκος εκφώνησης (MLU) είναι σχετικά χαμηλό, ακόμη και στην ενήλικη ζωή. Η συνδυαστική γλώσσα χαρακτηρίζεται από μια ορισμένη τυπική απλότητα των εκφωνήσεων</a:t>
            </a:r>
            <a:r>
              <a:rPr b="0" lang="el"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04" name="PlaceHolder 2"/>
          <p:cNvSpPr>
            <a:spLocks noGrp="1"/>
          </p:cNvSpPr>
          <p:nvPr>
            <p:ph type="sldImg"/>
          </p:nvPr>
        </p:nvSpPr>
        <p:spPr>
          <a:xfrm>
            <a:off x="380880" y="685800"/>
            <a:ext cx="6095520" cy="3428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Από αναπτυξιακή άποψη, η ικανότητα συνδυασμού πολλών λέξεων εμφανίζεται γύρω στους 20-24 μήνες στα νευροτυπικά παιδιά. Αυτό σηματοδοτεί μια σημαντική αύξηση στην εκφραστική δύναμη του παιδιού. Ο συνδυασμός 2 ή 3 λέξεων στην ίδια έκφραση επιτρέπει μια ολόκληρη σειρά σημασιών να εκφραστούν πολύ πιο ξεκάθαρα και πληρέστερα (για παράδειγμα, εκφράζοντας την ύπαρξη ενός αναφορικού, την απουσία ή την εξαφάνισή του· προσδιορίζοντας το χαρακτηριστικό ενός αναφορικού, την κατοχή ή τη θέση του Εκφράζοντας μια σχέση μεταξύ ενός πράκτορα και ενός αντικειμένου, κ.λπ.) (J.-A. Rondal et al., 1999).</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1" lang="el" sz="1800" spc="-1" strike="noStrike">
                <a:solidFill>
                  <a:srgbClr val="000000"/>
                </a:solidFill>
                <a:latin typeface="Calibri"/>
                <a:ea typeface="Calibri"/>
              </a:rPr>
              <a:t>Σε παιδιά IDD</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Σημαντική καθυστέρηση στη συντακτική παραγωγή σε σύγκριση με τα τυπικά παιδιά</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παραγωγή έως και 4 λέξεων σε συνδυασμό σε ηλικία 5 ετών</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Το MLU γενικά πολύ χαμηλότερο από το αναμενόμενο με βάση τη μη λεκτική νοητική ηλικία τους</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τα γραμματικά μορφώματα είναι τα πιο προβληματικά</a:t>
            </a:r>
            <a:endParaRPr b="0" lang="en-US" sz="1800" spc="-1" strike="noStrike">
              <a:solidFill>
                <a:srgbClr val="000000"/>
              </a:solidFill>
              <a:latin typeface="Arial"/>
            </a:endParaRPr>
          </a:p>
        </p:txBody>
      </p:sp>
      <p:sp>
        <p:nvSpPr>
          <p:cNvPr id="206" name="PlaceHolder 2"/>
          <p:cNvSpPr>
            <a:spLocks noGrp="1"/>
          </p:cNvSpPr>
          <p:nvPr>
            <p:ph type="sldImg"/>
          </p:nvPr>
        </p:nvSpPr>
        <p:spPr>
          <a:xfrm>
            <a:off x="380880" y="685800"/>
            <a:ext cx="6095520" cy="3428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Στο τυπικό παιδί , αφού έχουν παραχθεί οι πρώτες λέξεις , του παιδιού το λεξιλόγιο διευρύνεται, οδηγώντας 20-24 μήνες περίπου , να παράγει​​​ συνειρμοί λέξεων που επιτρέπουν όλο και περισσότερο συγκρότημα νοήματα να είσαι εκφράζεται .</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Ο συνδυασμός 2 ή 3 λέξεων στην ίδια έκφραση επιτρέπει μια ολόκληρη σειρά σημασιών να εκφραστούν πολύ πιο ξεκάθαρα και πληρέστερα (για παράδειγμα, εκφράζοντας την ύπαρξη ενός αναφορικού, την απουσία ή την εξαφάνισή του· προσδιορίζοντας το χαρακτηριστικό ενός αναφορικού, την κατοχή ή τη θέση του Εκφράζοντας μια σχέση μεταξύ ενός πράκτορα και ενός αντικειμένου, κ.λπ.) (J.-A. Rondal et al., 1999).</a:t>
            </a:r>
            <a:r>
              <a:rPr b="0" lang="el" sz="3200" spc="-1" strike="noStrike">
                <a:solidFill>
                  <a:srgbClr val="000000"/>
                </a:solidFill>
                <a:latin typeface="Calibri"/>
                <a:ea typeface="Calibri"/>
              </a:rPr>
              <a:t> </a:t>
            </a:r>
            <a:endParaRPr b="0" lang="en-US" sz="32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Σε πολλές γλώσσες, συμπεριλαμβανομένων των γαλλικών και των αγγλικών, η σειρά λέξεων και η κλίση μορφολογική σήμανση είναι βασικές μεταβλητές για την έκφραση του νοήματος. Οι περισσότερες εκφράσεις των μικρών παιδιών είναι σωστά διατεταγμένες σε περίπου 30 μήνες. Η κανονική σειρά στα γαλλικά είναι υποκείμενο-ρήμα-αντικείμενο και γενικά αντιπροσωπεύει μια σχέση πράκτορα-δράση-ασθενή. Τα σημάδια κλίσης (γένος, αριθμός κ.λπ.) στα διάφορα λεξικά στοιχεία καθιστούν δυνατή την κωδικοποίηση πρόσθετων σχέσεων νοήματος ή την έμφαση σε ορισμένες σημασιολογικές ενδείξεις που παρέχονται ήδη στην πρόταση.</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p:txBody>
      </p:sp>
      <p:sp>
        <p:nvSpPr>
          <p:cNvPr id="208" name="PlaceHolder 2"/>
          <p:cNvSpPr>
            <a:spLocks noGrp="1"/>
          </p:cNvSpPr>
          <p:nvPr>
            <p:ph type="sldImg"/>
          </p:nvPr>
        </p:nvSpPr>
        <p:spPr>
          <a:xfrm>
            <a:off x="380880" y="685800"/>
            <a:ext cx="6095520" cy="34286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Αυτό που διαφοροποιεί αυτές τις εκφράσεις του πρώτου παιδιού από τις εκφράσεις ενηλίκων είναι, αφενός, η χρήση γραμματικών λέξεων όπως άρθρα, αντωνυμίες, προθέσεις κ.λπ., κλίσης μορφολογικής σήμανσης και, αφετέρου, συντακτικής σήμανσης. των τρόπων λόγου</a:t>
            </a:r>
            <a:r>
              <a:rPr b="0" lang="el" sz="3200" spc="-1" strike="noStrike">
                <a:solidFill>
                  <a:srgbClr val="000000"/>
                </a:solidFill>
                <a:latin typeface="Calibri"/>
                <a:ea typeface="Calibri"/>
              </a:rPr>
              <a:t> </a:t>
            </a:r>
            <a:endParaRPr b="0" lang="en-US" sz="3200" spc="-1" strike="noStrike">
              <a:solidFill>
                <a:srgbClr val="000000"/>
              </a:solidFill>
              <a:latin typeface="Arial"/>
            </a:endParaRPr>
          </a:p>
        </p:txBody>
      </p:sp>
      <p:sp>
        <p:nvSpPr>
          <p:cNvPr id="210" name="PlaceHolder 2"/>
          <p:cNvSpPr>
            <a:spLocks noGrp="1"/>
          </p:cNvSpPr>
          <p:nvPr>
            <p:ph type="sldImg"/>
          </p:nvPr>
        </p:nvSpPr>
        <p:spPr>
          <a:xfrm>
            <a:off x="380880" y="685800"/>
            <a:ext cx="6095520" cy="3428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Η διαδικασία απόκτησης κανόνων για τη σειρά των λέξεων στην πρόταση είναι όπως αυτή που παρατηρείται στο νευροτυπικό παιδί. Επομένως, αυτοί οι κανόνες σειράς εμφανίζονται από το στάδιο των πρώτων εκφωνήσεων. Ακολούθως, παρατηρούμε ότι οι παραγωγές των παιδιών με IDD, αν και πιο σύντομες και λιγότερο σύνθετες από αυτές των παιδιών της ίδιας αναπτυξιακής ηλικίας, είναι σωστά ταξινομημένες </a:t>
            </a:r>
            <a:r>
              <a:rPr b="0" lang="el" sz="3200" spc="-1" strike="noStrike">
                <a:solidFill>
                  <a:srgbClr val="000000"/>
                </a:solidFill>
                <a:latin typeface="Calibri"/>
                <a:ea typeface="Calibri"/>
              </a:rPr>
              <a:t>.</a:t>
            </a:r>
            <a:endParaRPr b="0" lang="en-US" sz="3200" spc="-1" strike="noStrike">
              <a:solidFill>
                <a:srgbClr val="000000"/>
              </a:solidFill>
              <a:latin typeface="Arial"/>
            </a:endParaRPr>
          </a:p>
          <a:p>
            <a:pPr marL="158760" indent="0" algn="just">
              <a:lnSpc>
                <a:spcPct val="150000"/>
              </a:lnSpc>
              <a:spcBef>
                <a:spcPts val="601"/>
              </a:spcBef>
              <a:buNone/>
              <a:tabLst>
                <a:tab algn="l" pos="0"/>
              </a:tabLst>
            </a:pPr>
            <a:endParaRPr b="0" lang="en-US" sz="32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Σε ενήλικες με IDD, μόνο οι μισές από τις εκφράσεις που παράγονται είναι πλήρεις και γραμματικά σωστές. Η πολυπλοκότητα της πρότασης μειώνεται επίσης. Ο συντονισμός και η υποταγή σπάνια υπάρχουν στις παραγωγές.</a:t>
            </a:r>
            <a:r>
              <a:rPr b="0" lang="el" sz="3200" spc="-1" strike="noStrike">
                <a:solidFill>
                  <a:srgbClr val="000000"/>
                </a:solidFill>
                <a:latin typeface="Calibri"/>
                <a:ea typeface="Calibri"/>
              </a:rPr>
              <a:t> </a:t>
            </a:r>
            <a:endParaRPr b="0" lang="en-US" sz="3200" spc="-1" strike="noStrike">
              <a:solidFill>
                <a:srgbClr val="000000"/>
              </a:solidFill>
              <a:latin typeface="Arial"/>
            </a:endParaRPr>
          </a:p>
          <a:p>
            <a:pPr marL="158760" indent="0" algn="just">
              <a:lnSpc>
                <a:spcPct val="150000"/>
              </a:lnSpc>
              <a:spcBef>
                <a:spcPts val="601"/>
              </a:spcBef>
              <a:buNone/>
              <a:tabLst>
                <a:tab algn="l" pos="0"/>
              </a:tabLst>
            </a:pPr>
            <a:endParaRPr b="0" lang="en-US" sz="32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Το μορφολογικό επίπεδο είναι αντικειμενικά το πιο ελλιπές, ανεξάρτητα από τη χρονολογική ηλικία του ατόμου. Η κατανόηση και η παραγωγή της γραμματικής μορφολογίας είναι κάτω από αυτό που αναμένεται με βάση τη μη λεκτική νοητική ηλικία.</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Γιατί ; </a:t>
            </a:r>
            <a:r>
              <a:rPr b="0" lang="el" sz="1800" spc="-1" strike="noStrike">
                <a:solidFill>
                  <a:srgbClr val="000000"/>
                </a:solidFill>
                <a:latin typeface="Wingdings"/>
                <a:ea typeface="Calibri"/>
              </a:rPr>
              <a:t></a:t>
            </a:r>
            <a:r>
              <a:rPr b="0" lang="el" sz="1800" spc="-1" strike="noStrike">
                <a:solidFill>
                  <a:srgbClr val="000000"/>
                </a:solidFill>
                <a:latin typeface="Calibri"/>
                <a:ea typeface="Calibri"/>
              </a:rPr>
              <a:t> γιατί αυτές οι μορφές έχουν μικρή φωνητική ή αντιληπτική σημασία. Ως αποτέλεσμα, δεν προσελκύουν το ενδιαφέρον του παιδιού σε πρώιμο στάδιο. Είναι επίσης ενδιαφέρον να σημειωθεί ότι η παλαιότερη απόκτηση σύνταξης από τη γραμματική μορφολογία παρατηρείται επίσης σε μορφολογικά πλούσιες γλώσσες (όπως τα γερμανικά και τα ιταλικά).</a:t>
            </a:r>
            <a:r>
              <a:rPr b="0" lang="el" sz="3200" spc="-1" strike="noStrike">
                <a:solidFill>
                  <a:srgbClr val="000000"/>
                </a:solidFill>
                <a:latin typeface="Calibri"/>
                <a:ea typeface="Calibri"/>
              </a:rPr>
              <a:t> </a:t>
            </a:r>
            <a:endParaRPr b="0" lang="en-US" sz="3200" spc="-1" strike="noStrike">
              <a:solidFill>
                <a:srgbClr val="000000"/>
              </a:solidFill>
              <a:latin typeface="Arial"/>
            </a:endParaRPr>
          </a:p>
        </p:txBody>
      </p:sp>
      <p:sp>
        <p:nvSpPr>
          <p:cNvPr id="212" name="PlaceHolder 2"/>
          <p:cNvSpPr>
            <a:spLocks noGrp="1"/>
          </p:cNvSpPr>
          <p:nvPr>
            <p:ph type="sldImg"/>
          </p:nvPr>
        </p:nvSpPr>
        <p:spPr>
          <a:xfrm>
            <a:off x="380880" y="685800"/>
            <a:ext cx="6095520" cy="3428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Σε ενήλικες με IDD, μόνο οι μισές από τις εκφράσεις που παράγονται είναι πλήρεις και γραμματικά σωστές.</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Η πολυπλοκότητα της πρότασης μειώνεται επίσης.</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Ο συντονισμός και η υποταγή σπάνια υπάρχουν στις παραγωγές.</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Η γραμματική σήμανση του φύλου και του αριθμού εμφανίζεται μόνο μία φορά στα δύο, και τα οριστικά και τα αόριστα άρθρα συχνά παραλείπονται, όπως και τα θηλυκά σημάδια στα ουσιαστικά και τα επίθετα, και τα σημάδια χρόνου και προσώπου στα ρήματα </a:t>
            </a:r>
            <a:r>
              <a:rPr b="0" lang="el" sz="1800" spc="-1" strike="noStrike">
                <a:solidFill>
                  <a:srgbClr val="000000"/>
                </a:solidFill>
                <a:latin typeface="Calibri"/>
                <a:ea typeface="Calibri"/>
              </a:rPr>
              <a:t>(Comblain &amp; Piérart , 1998; J.-A. Rondal &amp; Lambert, 1983) </a:t>
            </a:r>
            <a:r>
              <a:rPr b="0" lang="el" sz="1800" spc="-1" strike="noStrike">
                <a:solidFill>
                  <a:srgbClr val="000000"/>
                </a:solidFill>
                <a:latin typeface="Calibri"/>
                <a:ea typeface="Calibri"/>
              </a:rPr>
              <a:t>.</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Γενικά, η συντακτική παραγωγή των ενηλίκων με σύνδρομο Down είναι ποιοτικά κατώτερη από αυτή των ενηλίκων με νοητική αναπηρία άλλης αιτιολογίας . Έτσι, σε σύγκριση με τα αρσενικά άτομα της ίδιας νοητικής ηλικίας με σύνδρομο X-Fragile, οι εκφράσεις των νεαρών εφήβων με σύνδρομο Down είναι πιο σύντομες, λιγότερο διαφοροποιημένες και περιέχουν λιγότερες πλούσιες συντακτικές μορφές, λιγότερες ερωτηματικές και αρνητικές μορφές (Martin et al., 2013). .</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Όπως και στην παραγωγή, υπάρχει μια ασυμφωνία μεταξύ συντακτικής και μορφολογικής κατανόησης.</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p:txBody>
      </p:sp>
      <p:sp>
        <p:nvSpPr>
          <p:cNvPr id="214" name="PlaceHolder 2"/>
          <p:cNvSpPr>
            <a:spLocks noGrp="1"/>
          </p:cNvSpPr>
          <p:nvPr>
            <p:ph type="sldImg"/>
          </p:nvPr>
        </p:nvSpPr>
        <p:spPr>
          <a:xfrm>
            <a:off x="380880" y="685800"/>
            <a:ext cx="6095520" cy="3428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Η συντακτική κατανόηση είναι γενικά σύμφωνη με αυτό που αναμένεται με βάση τη μη λεκτική νοητική ηλικία, ενώ η κατανόηση της γραμματικής μορφολογίας είναι κάτω από το αναμενόμενο (Price et al., 2007). Η δυσκολία που έχουν τα άτομα με IDD στο να κατακτήσουν τις μορφολογικές συσκευές της γλώσσας μπορεί να εξηγηθεί από το γεγονός ότι, σε αντίθεση με τη συντακτική συσκευή, αυτές δεν κωδικοποιούν ανεξάρτητο νόημα, αλλά έχουν μια λειτουργία τροποποίησης της σημασίας άλλων όρων (τον χρόνο κατά τον οποίο λαμβάνει χώρα η δράση, ο αριθμός, το πρόσωπο κ.λπ.). Αυτές οι μορφές είναι φωνητικά-αντιληπτικά λιγότερο εμφανείς και τραβούν την προσοχή του παιδιού αργότερα.</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Το 1996, ο Comblain συνέκρινε την απόδοση κατανόησης του συμπλέγματος δηλώσεις και γραμματικές κάμψεις σε ομάδα 40 συμμετεχόντων με σύνδρομο Down και τυπικό παιδιά ταιριάζουν με βάση τη νοητική ηλικία . Αυτή βρέθηκαν ότι η κατανόηση ικανότητες των ατόμων με σύνδρομο Down ήταν πιο χαμηλα από αναμένεται με βάση τη νοητική ηλικία .</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el" sz="1800" spc="-1" strike="noStrike">
                <a:solidFill>
                  <a:srgbClr val="000000"/>
                </a:solidFill>
                <a:latin typeface="Calibri"/>
                <a:ea typeface="Calibri"/>
              </a:rPr>
              <a:t>Είναι ενδιαφέρον το προφίλ των καμπυλών ήταν παρόμοια και στις δύο ομάδες, υποδηλώνοντας ότι τι είναι είναι δύσκολο να γίνει κατανοητό για άτομα με IDD επίσης δυσνόητο για τυπικό​​ παιδιά .</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p:txBody>
      </p:sp>
      <p:sp>
        <p:nvSpPr>
          <p:cNvPr id="216" name="PlaceHolder 2"/>
          <p:cNvSpPr>
            <a:spLocks noGrp="1"/>
          </p:cNvSpPr>
          <p:nvPr>
            <p:ph type="sldImg"/>
          </p:nvPr>
        </p:nvSpPr>
        <p:spPr>
          <a:xfrm>
            <a:off x="380880" y="685800"/>
            <a:ext cx="6095520" cy="3428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939A1-5E12-4B35-AB09-8469BB17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71E5B-2CCD-40E2-9467-6CEE396E1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8CDA9-51A7-4B5D-A647-116C7DA40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1"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C753D-981C-4088-99B8-CAC292EF1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C680D-08B3-47F7-B5CD-2FAF936A1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A7B1B-D9AA-42AB-801E-746E93286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6066F-2D77-4547-A2D8-A83740FA5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45AFB-FA2E-44C3-B62B-71F35B998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78C6B-1C3E-4B1A-8C82-0149EA3A3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13F27-8815-48A5-AECD-69A8BED72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CD359-AC07-48BF-B2DC-09D7BAA82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CFE9C-256B-4A10-A28C-6825E092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C9CBC-B9C6-482A-AFBD-47715B393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A0491-7CEA-4A71-8251-CEE36BC77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19968-C575-49D3-8BB9-B51B767A8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78315-4F68-4410-9997-0C7E0CAC9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2B625-7D30-4F63-86FE-6419C92D8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0F1D2-DBDC-46AB-AF05-38411376C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8FBBE-5E7F-492B-B521-1A08C7BD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3E49B-317B-4F1F-9882-39B6AD773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D0224-9217-4ACA-AEBC-DC9E9F4CD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E780-7225-4D33-9049-AB72093D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63B0-0715-439A-868D-D2D795EAE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DD10-AFF8-43C5-80A5-CF379AF43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1;p4" hidden="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1" name="Google Shape;13;p5"/>
          <p:cNvSpPr/>
          <p:nvPr/>
        </p:nvSpPr>
        <p:spPr>
          <a:xfrm>
            <a:off x="160920" y="157680"/>
            <a:ext cx="11869920" cy="6542280"/>
          </a:xfrm>
          <a:prstGeom prst="rect">
            <a:avLst/>
          </a:pr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2" name="PlaceHolder 1"/>
          <p:cNvSpPr>
            <a:spLocks noGrp="1"/>
          </p:cNvSpPr>
          <p:nvPr>
            <p:ph type="title"/>
          </p:nvPr>
        </p:nvSpPr>
        <p:spPr>
          <a:xfrm>
            <a:off x="2035080" y="1066680"/>
            <a:ext cx="8111880" cy="2072880"/>
          </a:xfrm>
          <a:prstGeom prst="rect">
            <a:avLst/>
          </a:prstGeom>
          <a:noFill/>
          <a:ln w="0">
            <a:noFill/>
          </a:ln>
        </p:spPr>
        <p:txBody>
          <a:bodyPr anchor="b">
            <a:norm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dt" idx="1"/>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7279920" y="624528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36D563CF-05C0-4A18-981D-BFA62CF7F87C}"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grpSp>
        <p:nvGrpSpPr>
          <p:cNvPr id="6" name="Google Shape;19;p5"/>
          <p:cNvGrpSpPr/>
          <p:nvPr/>
        </p:nvGrpSpPr>
        <p:grpSpPr>
          <a:xfrm>
            <a:off x="5662080" y="4216680"/>
            <a:ext cx="867600" cy="162720"/>
            <a:chOff x="5662080" y="4216680"/>
            <a:chExt cx="867600" cy="162720"/>
          </a:xfrm>
        </p:grpSpPr>
        <p:sp>
          <p:nvSpPr>
            <p:cNvPr id="7" name="Google Shape;20;p5"/>
            <p:cNvSpPr/>
            <p:nvPr/>
          </p:nvSpPr>
          <p:spPr>
            <a:xfrm flipH="1" rot="18964800">
              <a:off x="6038280" y="424044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8" name="Google Shape;21;p5"/>
            <p:cNvCxnSpPr/>
            <p:nvPr/>
          </p:nvCxnSpPr>
          <p:spPr>
            <a:xfrm>
              <a:off x="6177600" y="4298040"/>
              <a:ext cx="352440" cy="360"/>
            </a:xfrm>
            <a:prstGeom prst="straightConnector1">
              <a:avLst/>
            </a:prstGeom>
            <a:ln w="15875">
              <a:solidFill>
                <a:srgbClr val="2c2830"/>
              </a:solidFill>
              <a:miter/>
            </a:ln>
          </p:spPr>
        </p:cxnSp>
        <p:cxnSp>
          <p:nvCxnSpPr>
            <p:cNvPr id="9" name="Google Shape;22;p5"/>
            <p:cNvCxnSpPr/>
            <p:nvPr/>
          </p:nvCxnSpPr>
          <p:spPr>
            <a:xfrm>
              <a:off x="5662080" y="4298040"/>
              <a:ext cx="352440" cy="360"/>
            </a:xfrm>
            <a:prstGeom prst="straightConnector1">
              <a:avLst/>
            </a:prstGeom>
            <a:ln w="15875">
              <a:solidFill>
                <a:srgbClr val="2c2830"/>
              </a:solidFill>
              <a:miter/>
            </a:ln>
          </p:spPr>
        </p:cxnSp>
      </p:grp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7" name="Google Shape;11;p4"/>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48" name="PlaceHolder 1"/>
          <p:cNvSpPr>
            <a:spLocks noGrp="1"/>
          </p:cNvSpPr>
          <p:nvPr>
            <p:ph type="title"/>
          </p:nvPr>
        </p:nvSpPr>
        <p:spPr>
          <a:xfrm>
            <a:off x="1028880" y="723960"/>
            <a:ext cx="10134360" cy="1288080"/>
          </a:xfrm>
          <a:prstGeom prst="rect">
            <a:avLst/>
          </a:prstGeom>
          <a:noFill/>
          <a:ln w="0">
            <a:noFill/>
          </a:ln>
        </p:spPr>
        <p:txBody>
          <a:bodyPr anchor="b">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1028880" y="2161800"/>
            <a:ext cx="10134360" cy="39690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0" name="PlaceHolder 3"/>
          <p:cNvSpPr>
            <a:spLocks noGrp="1"/>
          </p:cNvSpPr>
          <p:nvPr>
            <p:ph type="dt" idx="4"/>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7279920" y="6244920"/>
            <a:ext cx="4111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7246896C-A513-4779-9A52-395F465DDD72}"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chart" Target="../charts/chart1.xml"/><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diagramData" Target="../diagrams/data1.xml"/><Relationship Id="rId4" Type="http://schemas.openxmlformats.org/officeDocument/2006/relationships/diagramLayout" Target="../diagrams/layout1.xml"/><Relationship Id="rId5" Type="http://schemas.openxmlformats.org/officeDocument/2006/relationships/diagramQuickStyle" Target="../diagrams/quickStyle1.xml"/><Relationship Id="rId6" Type="http://schemas.openxmlformats.org/officeDocument/2006/relationships/diagramColors" Target="../diagrams/colors1.xml"/><Relationship Id="rId7" Type="http://schemas.microsoft.com/office/2007/relationships/diagramDrawing" Target="../diagrams/drawing1.xml"/><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diagramData" Target="../diagrams/data2.xml"/><Relationship Id="rId4" Type="http://schemas.openxmlformats.org/officeDocument/2006/relationships/diagramLayout" Target="../diagrams/layout2.xml"/><Relationship Id="rId5" Type="http://schemas.openxmlformats.org/officeDocument/2006/relationships/diagramQuickStyle" Target="../diagrams/quickStyle2.xml"/><Relationship Id="rId6" Type="http://schemas.openxmlformats.org/officeDocument/2006/relationships/diagramColors" Target="../diagrams/colors2.xml"/><Relationship Id="rId7" Type="http://schemas.microsoft.com/office/2007/relationships/diagramDrawing" Target="../diagrams/drawing2.xml"/><Relationship Id="rId8" Type="http://schemas.openxmlformats.org/officeDocument/2006/relationships/slideLayout" Target="../slideLayouts/slideLayout1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chart" Target="../charts/chart2.xml"/><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95" name="Google Shape;95;p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6" name="Google Shape;96;p1"/>
          <p:cNvSpPr/>
          <p:nvPr/>
        </p:nvSpPr>
        <p:spPr>
          <a:xfrm>
            <a:off x="0" y="0"/>
            <a:ext cx="12191760" cy="6857640"/>
          </a:xfrm>
          <a:prstGeom prst="rect">
            <a:avLst/>
          </a:prstGeom>
          <a:solidFill>
            <a:schemeClr val="lt1"/>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7" name="Google Shape;97;p1"/>
          <p:cNvSpPr/>
          <p:nvPr/>
        </p:nvSpPr>
        <p:spPr>
          <a:xfrm>
            <a:off x="6836040" y="723960"/>
            <a:ext cx="4580280" cy="5494320"/>
          </a:xfrm>
          <a:custGeom>
            <a:avLst/>
            <a:gdLst>
              <a:gd name="textAreaLeft" fmla="*/ 0 w 4580280"/>
              <a:gd name="textAreaRight" fmla="*/ 4580640 w 4580280"/>
              <a:gd name="textAreaTop" fmla="*/ 0 h 5494320"/>
              <a:gd name="textAreaBottom" fmla="*/ 5494680 h 5494320"/>
            </a:gdLst>
            <a:ahLst/>
            <a:rect l="textAreaLeft" t="textAreaTop" r="textAreaRight" b="textAreaBottom"/>
            <a:pathLst>
              <a:path w="6096000" h="6858000">
                <a:moveTo>
                  <a:pt x="0" y="0"/>
                </a:moveTo>
                <a:lnTo>
                  <a:pt x="6096000" y="0"/>
                </a:lnTo>
                <a:lnTo>
                  <a:pt x="6096000" y="6858000"/>
                </a:lnTo>
                <a:lnTo>
                  <a:pt x="3037115" y="5889172"/>
                </a:lnTo>
                <a:lnTo>
                  <a:pt x="0" y="6858000"/>
                </a:lnTo>
                <a:lnTo>
                  <a:pt x="0" y="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8" name="PlaceHolder 1"/>
          <p:cNvSpPr>
            <a:spLocks noGrp="1"/>
          </p:cNvSpPr>
          <p:nvPr>
            <p:ph type="title"/>
          </p:nvPr>
        </p:nvSpPr>
        <p:spPr>
          <a:xfrm>
            <a:off x="7151040" y="1000440"/>
            <a:ext cx="3994920" cy="1239120"/>
          </a:xfrm>
          <a:prstGeom prst="rect">
            <a:avLst/>
          </a:prstGeom>
          <a:noFill/>
          <a:ln w="0">
            <a:noFill/>
          </a:ln>
        </p:spPr>
        <p:txBody>
          <a:bodyPr anchor="b">
            <a:normAutofit/>
          </a:bodyPr>
          <a:p>
            <a:pPr indent="0" algn="ctr">
              <a:lnSpc>
                <a:spcPct val="110000"/>
              </a:lnSpc>
              <a:buNone/>
              <a:tabLst>
                <a:tab algn="l" pos="0"/>
              </a:tabLst>
            </a:pPr>
            <a:r>
              <a:rPr b="0" lang="el" sz="3200" spc="-1" strike="noStrike">
                <a:solidFill>
                  <a:schemeClr val="dk2"/>
                </a:solidFill>
                <a:latin typeface="Arial"/>
                <a:ea typeface="Arial"/>
              </a:rPr>
              <a:t> </a:t>
            </a:r>
            <a:endParaRPr b="0" lang="en-US" sz="3200" spc="-1" strike="noStrike">
              <a:solidFill>
                <a:srgbClr val="000000"/>
              </a:solidFill>
              <a:latin typeface="Arial"/>
            </a:endParaRPr>
          </a:p>
        </p:txBody>
      </p:sp>
      <p:sp>
        <p:nvSpPr>
          <p:cNvPr id="99" name="PlaceHolder 2"/>
          <p:cNvSpPr>
            <a:spLocks noGrp="1"/>
          </p:cNvSpPr>
          <p:nvPr>
            <p:ph type="subTitle"/>
          </p:nvPr>
        </p:nvSpPr>
        <p:spPr>
          <a:xfrm>
            <a:off x="7279920" y="2668680"/>
            <a:ext cx="3766320" cy="2468880"/>
          </a:xfrm>
          <a:prstGeom prst="rect">
            <a:avLst/>
          </a:prstGeom>
          <a:noFill/>
          <a:ln w="0">
            <a:noFill/>
          </a:ln>
        </p:spPr>
        <p:txBody>
          <a:bodyPr anchor="t">
            <a:noAutofit/>
          </a:bodyPr>
          <a:p>
            <a:pPr indent="0" algn="ctr">
              <a:lnSpc>
                <a:spcPct val="100000"/>
              </a:lnSpc>
              <a:buNone/>
              <a:tabLst>
                <a:tab algn="l" pos="0"/>
              </a:tabLst>
            </a:pPr>
            <a:r>
              <a:rPr b="1" lang="el" sz="6000" spc="-1" strike="noStrike">
                <a:solidFill>
                  <a:srgbClr val="674ea7"/>
                </a:solidFill>
                <a:latin typeface="Calibri"/>
                <a:ea typeface="Calibri"/>
              </a:rPr>
              <a:t>Ενότητα 6</a:t>
            </a:r>
            <a:endParaRPr b="0" lang="en-US" sz="6000" spc="-1" strike="noStrike">
              <a:solidFill>
                <a:srgbClr val="000000"/>
              </a:solidFill>
              <a:latin typeface="Arial"/>
            </a:endParaRPr>
          </a:p>
          <a:p>
            <a:pPr indent="0" algn="ctr">
              <a:lnSpc>
                <a:spcPct val="100000"/>
              </a:lnSpc>
              <a:spcBef>
                <a:spcPts val="1001"/>
              </a:spcBef>
              <a:buNone/>
              <a:tabLst>
                <a:tab algn="l" pos="0"/>
              </a:tabLst>
            </a:pPr>
            <a:r>
              <a:rPr b="1" lang="el-GR" sz="3200" spc="-1" strike="noStrike">
                <a:solidFill>
                  <a:srgbClr val="674ea7"/>
                </a:solidFill>
                <a:latin typeface="Calibri"/>
                <a:ea typeface="Arial"/>
              </a:rPr>
              <a:t>Σύνθετα μέσα επικοινωνίας</a:t>
            </a:r>
            <a:endParaRPr b="0" lang="en-US" sz="32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p:txBody>
      </p:sp>
      <p:pic>
        <p:nvPicPr>
          <p:cNvPr id="100" name="Google Shape;100;p1" descr="A group of people with a infinity symbol&#10;&#10;Description automatically generated"/>
          <p:cNvPicPr/>
          <p:nvPr/>
        </p:nvPicPr>
        <p:blipFill>
          <a:blip r:embed="rId1"/>
          <a:stretch/>
        </p:blipFill>
        <p:spPr>
          <a:xfrm>
            <a:off x="723960" y="1456560"/>
            <a:ext cx="5371920" cy="4028760"/>
          </a:xfrm>
          <a:prstGeom prst="rect">
            <a:avLst/>
          </a:prstGeom>
          <a:ln w="0">
            <a:noFill/>
          </a:ln>
        </p:spPr>
      </p:pic>
      <p:grpSp>
        <p:nvGrpSpPr>
          <p:cNvPr id="101" name="Google Shape;101;p1"/>
          <p:cNvGrpSpPr/>
          <p:nvPr/>
        </p:nvGrpSpPr>
        <p:grpSpPr>
          <a:xfrm>
            <a:off x="8735400" y="2318400"/>
            <a:ext cx="867600" cy="162720"/>
            <a:chOff x="8735400" y="2318400"/>
            <a:chExt cx="867600" cy="162720"/>
          </a:xfrm>
        </p:grpSpPr>
        <p:sp>
          <p:nvSpPr>
            <p:cNvPr id="102" name="Google Shape;102;p1"/>
            <p:cNvSpPr/>
            <p:nvPr/>
          </p:nvSpPr>
          <p:spPr>
            <a:xfrm flipH="1" rot="18964800">
              <a:off x="9111600" y="234216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103" name="Google Shape;103;p1"/>
            <p:cNvCxnSpPr/>
            <p:nvPr/>
          </p:nvCxnSpPr>
          <p:spPr>
            <a:xfrm>
              <a:off x="9250920" y="2399760"/>
              <a:ext cx="352440" cy="360"/>
            </a:xfrm>
            <a:prstGeom prst="straightConnector1">
              <a:avLst/>
            </a:prstGeom>
            <a:ln w="15875">
              <a:solidFill>
                <a:srgbClr val="2c2830"/>
              </a:solidFill>
              <a:miter/>
            </a:ln>
          </p:spPr>
        </p:cxnSp>
        <p:cxnSp>
          <p:nvCxnSpPr>
            <p:cNvPr id="104" name="Google Shape;104;p1"/>
            <p:cNvCxnSpPr/>
            <p:nvPr/>
          </p:nvCxnSpPr>
          <p:spPr>
            <a:xfrm>
              <a:off x="8735400" y="2399760"/>
              <a:ext cx="352440" cy="360"/>
            </a:xfrm>
            <a:prstGeom prst="straightConnector1">
              <a:avLst/>
            </a:prstGeom>
            <a:ln w="15875">
              <a:solidFill>
                <a:srgbClr val="2c2830"/>
              </a:solidFill>
              <a:miter/>
            </a:ln>
          </p:spPr>
        </p:cxnSp>
      </p:grpSp>
      <p:sp>
        <p:nvSpPr>
          <p:cNvPr id="105" name="Google Shape;105;p1"/>
          <p:cNvSpPr/>
          <p:nvPr/>
        </p:nvSpPr>
        <p:spPr>
          <a:xfrm>
            <a:off x="7121520" y="1034640"/>
            <a:ext cx="4091760" cy="11883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l" sz="1800" spc="-1" strike="noStrike">
                <a:solidFill>
                  <a:schemeClr val="dk1"/>
                </a:solidFill>
                <a:latin typeface="Calibri"/>
                <a:ea typeface="Calibri"/>
              </a:rPr>
              <a:t>Εκπαίδευση αφιερωμένη σε επαγγελματίες για την υποστήριξη της ανάπτυξης</a:t>
            </a:r>
            <a:endParaRPr b="0" lang="en-US" sz="1800" spc="-1" strike="noStrike">
              <a:solidFill>
                <a:srgbClr val="000000"/>
              </a:solidFill>
              <a:latin typeface="Arial"/>
            </a:endParaRPr>
          </a:p>
          <a:p>
            <a:pPr algn="ctr">
              <a:lnSpc>
                <a:spcPct val="100000"/>
              </a:lnSpc>
              <a:tabLst>
                <a:tab algn="l" pos="0"/>
              </a:tabLst>
            </a:pPr>
            <a:r>
              <a:rPr b="1" lang="el" sz="1800" spc="-1" strike="noStrike">
                <a:solidFill>
                  <a:schemeClr val="dk1"/>
                </a:solidFill>
                <a:latin typeface="Calibri"/>
                <a:ea typeface="Calibri"/>
              </a:rPr>
              <a:t>Επικοινωνιακών Δεξιοτήτων</a:t>
            </a:r>
            <a:endParaRPr b="0" lang="en-US" sz="1800" spc="-1" strike="noStrike">
              <a:solidFill>
                <a:srgbClr val="000000"/>
              </a:solidFill>
              <a:latin typeface="Arial"/>
            </a:endParaRPr>
          </a:p>
        </p:txBody>
      </p:sp>
      <p:pic>
        <p:nvPicPr>
          <p:cNvPr id="106" name="Image 15" descr=""/>
          <p:cNvPicPr/>
          <p:nvPr/>
        </p:nvPicPr>
        <p:blipFill>
          <a:blip r:embed="rId2"/>
          <a:stretch/>
        </p:blipFill>
        <p:spPr>
          <a:xfrm>
            <a:off x="285120" y="5485680"/>
            <a:ext cx="1231200" cy="1295640"/>
          </a:xfrm>
          <a:prstGeom prst="rect">
            <a:avLst/>
          </a:prstGeom>
          <a:ln w="0">
            <a:noFill/>
          </a:ln>
        </p:spPr>
      </p:pic>
      <p:sp>
        <p:nvSpPr>
          <p:cNvPr id="107" name="ZoneTexte 14"/>
          <p:cNvSpPr/>
          <p:nvPr/>
        </p:nvSpPr>
        <p:spPr>
          <a:xfrm>
            <a:off x="7151040" y="6439320"/>
            <a:ext cx="4790880" cy="332280"/>
          </a:xfrm>
          <a:prstGeom prst="rect">
            <a:avLst/>
          </a:prstGeom>
          <a:noFill/>
          <a:ln w="0">
            <a:noFill/>
          </a:ln>
        </p:spPr>
        <p:style>
          <a:lnRef idx="0"/>
          <a:fillRef idx="0"/>
          <a:effectRef idx="0"/>
          <a:fontRef idx="minor"/>
        </p:style>
        <p:txBody>
          <a:bodyPr lIns="90000" rIns="90000" tIns="45000" bIns="45000" anchor="t">
            <a:noAutofit/>
          </a:bodyPr>
          <a:p>
            <a:pPr algn="r">
              <a:lnSpc>
                <a:spcPct val="115000"/>
              </a:lnSpc>
            </a:pPr>
            <a:r>
              <a:rPr b="0" lang="en-US" sz="1000" spc="-1" strike="noStrike">
                <a:solidFill>
                  <a:srgbClr val="000000"/>
                </a:solidFill>
                <a:latin typeface="Arial"/>
                <a:ea typeface="Arial"/>
              </a:rPr>
              <a:t>COM-IN KA220-VET-9A87A6EF © is licensed under CC BY-NC-SA 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99" name="PlaceHolder 1"/>
          <p:cNvSpPr>
            <a:spLocks noGrp="1"/>
          </p:cNvSpPr>
          <p:nvPr>
            <p:ph type="sldNum" idx="2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62D5B473-DF01-4953-811D-EADA4B163873}"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pic>
        <p:nvPicPr>
          <p:cNvPr id="200"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201" name="PlaceHolder 2"/>
          <p:cNvSpPr>
            <a:spLocks noGrp="1"/>
          </p:cNvSpPr>
          <p:nvPr>
            <p:ph type="ftr" idx="27"/>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202" name="ZoneTexte 2"/>
          <p:cNvSpPr/>
          <p:nvPr/>
        </p:nvSpPr>
        <p:spPr>
          <a:xfrm>
            <a:off x="698400" y="1657800"/>
            <a:ext cx="10794960" cy="261900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20000"/>
              </a:lnSpc>
              <a:spcBef>
                <a:spcPts val="601"/>
              </a:spcBef>
              <a:tabLst>
                <a:tab algn="l" pos="0"/>
              </a:tabLst>
            </a:pPr>
            <a:r>
              <a:rPr b="0" lang="el" sz="1400" spc="-1" strike="noStrike">
                <a:solidFill>
                  <a:srgbClr val="000000"/>
                </a:solidFill>
                <a:latin typeface="Arial"/>
                <a:ea typeface="Calibri"/>
              </a:rPr>
              <a:t>Miller, J., Miolo , G., Sedey , Α., &amp; Murray-Branch, J. (1993). Η εμφάνιση συνδυασμών πολλαπλών λέξεων σε παιδιά με σύνδρομο Down. </a:t>
            </a:r>
            <a:r>
              <a:rPr b="0" i="1" lang="el" sz="1400" spc="-1" strike="noStrike">
                <a:solidFill>
                  <a:srgbClr val="000000"/>
                </a:solidFill>
                <a:latin typeface="Arial"/>
                <a:ea typeface="Calibri"/>
              </a:rPr>
              <a:t>Αφίσα που παρουσιάστηκε στο Symposium for Research in Child Language Disorders, Madison, WI </a:t>
            </a:r>
            <a:r>
              <a:rPr b="0" lang="el" sz="1400" spc="-1" strike="noStrike">
                <a:solidFill>
                  <a:srgbClr val="000000"/>
                </a:solidFill>
                <a:latin typeface="Arial"/>
                <a:ea typeface="Calibri"/>
              </a:rPr>
              <a:t>.</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Price, J., Roberts, J., Vandergrift, N., &amp; Martin, G. (2007). Γλωσσική κατανόηση σε αγόρια με σύνδρομο εύθραυστου Χ και αγόρια με σύνδρομο Down. </a:t>
            </a:r>
            <a:r>
              <a:rPr b="0" i="1" lang="el" sz="1400" spc="-1" strike="noStrike">
                <a:solidFill>
                  <a:srgbClr val="000000"/>
                </a:solidFill>
                <a:latin typeface="Arial"/>
                <a:ea typeface="Calibri"/>
              </a:rPr>
              <a:t>Journal of Intellectual Disability Research </a:t>
            </a:r>
            <a:r>
              <a:rPr b="0" lang="el" sz="1400" spc="-1" strike="noStrike">
                <a:solidFill>
                  <a:srgbClr val="000000"/>
                </a:solidFill>
                <a:latin typeface="Arial"/>
                <a:ea typeface="Calibri"/>
              </a:rPr>
              <a:t>, </a:t>
            </a:r>
            <a:r>
              <a:rPr b="0" i="1" lang="el" sz="1400" spc="-1" strike="noStrike">
                <a:solidFill>
                  <a:srgbClr val="000000"/>
                </a:solidFill>
                <a:latin typeface="Arial"/>
                <a:ea typeface="Calibri"/>
              </a:rPr>
              <a:t>51 </a:t>
            </a:r>
            <a:r>
              <a:rPr b="0" lang="el" sz="1400" spc="-1" strike="noStrike">
                <a:solidFill>
                  <a:srgbClr val="000000"/>
                </a:solidFill>
                <a:latin typeface="Arial"/>
                <a:ea typeface="Calibri"/>
              </a:rPr>
              <a:t>(4), 318 </a:t>
            </a:r>
            <a:r>
              <a:rPr b="0" lang="el" sz="1400" spc="-1" strike="noStrike">
                <a:solidFill>
                  <a:srgbClr val="000000"/>
                </a:solidFill>
                <a:latin typeface="Arial"/>
                <a:ea typeface="Calibri"/>
              </a:rPr>
              <a:t>‑ </a:t>
            </a:r>
            <a:r>
              <a:rPr b="0" lang="el" sz="1400" spc="-1" strike="noStrike">
                <a:solidFill>
                  <a:srgbClr val="000000"/>
                </a:solidFill>
                <a:latin typeface="Arial"/>
                <a:ea typeface="Calibri"/>
              </a:rPr>
              <a:t>326. https:// doi.org /10.1111/j.1365-2788.2006.00881.x</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Rondal , JA (1995). </a:t>
            </a:r>
            <a:r>
              <a:rPr b="0" i="1" lang="el" sz="1400" spc="-1" strike="noStrike">
                <a:solidFill>
                  <a:srgbClr val="000000"/>
                </a:solidFill>
                <a:latin typeface="Arial"/>
                <a:ea typeface="Calibri"/>
              </a:rPr>
              <a:t>Εξαιρετική Γλωσσική Ανάπτυξη στο Σύνδρομο Down: Επιπτώσεις για τη Σχέση Γνώσης-Γλώσσας </a:t>
            </a:r>
            <a:r>
              <a:rPr b="0" lang="el" sz="1400" spc="-1" strike="noStrike">
                <a:solidFill>
                  <a:srgbClr val="000000"/>
                </a:solidFill>
                <a:latin typeface="Arial"/>
                <a:ea typeface="Calibri"/>
              </a:rPr>
              <a:t>. Cambridge University Press.</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Rondal , J.-A., &amp; Comblain, Α. (1999). Σύγχρονες προοπτικές για τις αναπτυξιακές δυσφασίες . </a:t>
            </a:r>
            <a:r>
              <a:rPr b="0" i="1" lang="el" sz="1400" spc="-1" strike="noStrike">
                <a:solidFill>
                  <a:srgbClr val="000000"/>
                </a:solidFill>
                <a:latin typeface="Arial"/>
                <a:ea typeface="Calibri"/>
              </a:rPr>
              <a:t>Journal of Neurolinguistics </a:t>
            </a:r>
            <a:r>
              <a:rPr b="0" lang="el" sz="1400" spc="-1" strike="noStrike">
                <a:solidFill>
                  <a:srgbClr val="000000"/>
                </a:solidFill>
                <a:latin typeface="Arial"/>
                <a:ea typeface="Calibri"/>
              </a:rPr>
              <a:t>, </a:t>
            </a:r>
            <a:r>
              <a:rPr b="0" i="1" lang="el" sz="1400" spc="-1" strike="noStrike">
                <a:solidFill>
                  <a:srgbClr val="000000"/>
                </a:solidFill>
                <a:latin typeface="Arial"/>
                <a:ea typeface="Calibri"/>
              </a:rPr>
              <a:t>12 </a:t>
            </a:r>
            <a:r>
              <a:rPr b="0" lang="el" sz="1400" spc="-1" strike="noStrike">
                <a:solidFill>
                  <a:srgbClr val="000000"/>
                </a:solidFill>
                <a:latin typeface="Arial"/>
                <a:ea typeface="Calibri"/>
              </a:rPr>
              <a:t>(3 </a:t>
            </a:r>
            <a:r>
              <a:rPr b="0" lang="el" sz="1400" spc="-1" strike="noStrike">
                <a:solidFill>
                  <a:srgbClr val="000000"/>
                </a:solidFill>
                <a:latin typeface="Arial"/>
                <a:ea typeface="Calibri"/>
              </a:rPr>
              <a:t>‑ </a:t>
            </a:r>
            <a:r>
              <a:rPr b="0" lang="el" sz="1400" spc="-1" strike="noStrike">
                <a:solidFill>
                  <a:srgbClr val="000000"/>
                </a:solidFill>
                <a:latin typeface="Arial"/>
                <a:ea typeface="Calibri"/>
              </a:rPr>
              <a:t>4), 181 </a:t>
            </a:r>
            <a:r>
              <a:rPr b="0" lang="el" sz="1400" spc="-1" strike="noStrike">
                <a:solidFill>
                  <a:srgbClr val="000000"/>
                </a:solidFill>
                <a:latin typeface="Arial"/>
                <a:ea typeface="Calibri"/>
              </a:rPr>
              <a:t>‑ </a:t>
            </a:r>
            <a:r>
              <a:rPr b="0" lang="el" sz="1400" spc="-1" strike="noStrike">
                <a:solidFill>
                  <a:srgbClr val="000000"/>
                </a:solidFill>
                <a:latin typeface="Arial"/>
                <a:ea typeface="Calibri"/>
              </a:rPr>
              <a:t>212. https:// doi.org /10.1016/S0911-6044(99)00014-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Bulle rectangulaire à coins arrondis 37"/>
          <p:cNvSpPr/>
          <p:nvPr/>
        </p:nvSpPr>
        <p:spPr>
          <a:xfrm>
            <a:off x="6953760" y="3429000"/>
            <a:ext cx="2602800" cy="1902960"/>
          </a:xfrm>
          <a:prstGeom prst="wedgeRoundRectCallout">
            <a:avLst>
              <a:gd name="adj1" fmla="val 66922"/>
              <a:gd name="adj2" fmla="val -6598"/>
              <a:gd name="adj3" fmla="val 16667"/>
            </a:avLst>
          </a:prstGeom>
          <a:noFill/>
          <a:ln>
            <a:solidFill>
              <a:srgbClr val="3f384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pic>
        <p:nvPicPr>
          <p:cNvPr id="109"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10" name="PlaceHolder 1"/>
          <p:cNvSpPr>
            <a:spLocks noGrp="1"/>
          </p:cNvSpPr>
          <p:nvPr>
            <p:ph type="sldNum" idx="10"/>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76EA716D-5804-406D-ADA5-97F4AF089592}"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11"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12" name="Rectangle 20"/>
          <p:cNvSpPr/>
          <p:nvPr/>
        </p:nvSpPr>
        <p:spPr>
          <a:xfrm>
            <a:off x="1753560" y="470880"/>
            <a:ext cx="8258760" cy="6015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el" sz="2800" spc="-1" strike="noStrike">
                <a:solidFill>
                  <a:schemeClr val="accent1"/>
                </a:solidFill>
                <a:latin typeface="Arial"/>
                <a:ea typeface="Arial"/>
              </a:rPr>
              <a:t>6.2.4 Μορφοσύνταξη</a:t>
            </a:r>
            <a:endParaRPr b="0" lang="en-US" sz="2800" spc="-1" strike="noStrike">
              <a:solidFill>
                <a:srgbClr val="000000"/>
              </a:solidFill>
              <a:latin typeface="Arial"/>
            </a:endParaRPr>
          </a:p>
        </p:txBody>
      </p:sp>
      <p:sp>
        <p:nvSpPr>
          <p:cNvPr id="113" name="PlaceHolder 2"/>
          <p:cNvSpPr>
            <a:spLocks noGrp="1"/>
          </p:cNvSpPr>
          <p:nvPr>
            <p:ph type="ftr" idx="11"/>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14" name="Rectangle : coins arrondis 2"/>
          <p:cNvSpPr/>
          <p:nvPr/>
        </p:nvSpPr>
        <p:spPr>
          <a:xfrm>
            <a:off x="629640" y="1984320"/>
            <a:ext cx="2083320" cy="539280"/>
          </a:xfrm>
          <a:prstGeom prst="roundRect">
            <a:avLst>
              <a:gd name="adj" fmla="val 16667"/>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chemeClr val="lt1"/>
                </a:solidFill>
                <a:latin typeface="Arial"/>
                <a:ea typeface="Arial"/>
              </a:rPr>
              <a:t>Επίπεδο </a:t>
            </a:r>
            <a:endParaRPr b="0" lang="en-US" sz="2000" spc="-1" strike="noStrike">
              <a:solidFill>
                <a:srgbClr val="000000"/>
              </a:solidFill>
              <a:latin typeface="Arial"/>
            </a:endParaRPr>
          </a:p>
        </p:txBody>
      </p:sp>
      <p:sp>
        <p:nvSpPr>
          <p:cNvPr id="115" name="Rectangle : coins arrondis 4"/>
          <p:cNvSpPr/>
          <p:nvPr/>
        </p:nvSpPr>
        <p:spPr>
          <a:xfrm>
            <a:off x="629640" y="4064040"/>
            <a:ext cx="2083320" cy="539280"/>
          </a:xfrm>
          <a:prstGeom prst="roundRect">
            <a:avLst>
              <a:gd name="adj" fmla="val 16667"/>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chemeClr val="lt1"/>
                </a:solidFill>
                <a:latin typeface="Arial"/>
                <a:ea typeface="Arial"/>
              </a:rPr>
              <a:t>Εννοια επίπεδο</a:t>
            </a:r>
            <a:endParaRPr b="0" lang="en-US" sz="2000" spc="-1" strike="noStrike">
              <a:solidFill>
                <a:srgbClr val="000000"/>
              </a:solidFill>
              <a:latin typeface="Arial"/>
            </a:endParaRPr>
          </a:p>
        </p:txBody>
      </p:sp>
      <p:sp>
        <p:nvSpPr>
          <p:cNvPr id="116" name="Rectangle : coins arrondis 5"/>
          <p:cNvSpPr/>
          <p:nvPr/>
        </p:nvSpPr>
        <p:spPr>
          <a:xfrm>
            <a:off x="629640" y="5705280"/>
            <a:ext cx="2083320" cy="539280"/>
          </a:xfrm>
          <a:prstGeom prst="roundRect">
            <a:avLst>
              <a:gd name="adj" fmla="val 16667"/>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chemeClr val="lt1"/>
                </a:solidFill>
                <a:latin typeface="Arial"/>
                <a:ea typeface="Arial"/>
              </a:rPr>
              <a:t>Συμφραζόμενα επίπεδο</a:t>
            </a:r>
            <a:endParaRPr b="0" lang="en-US" sz="2000" spc="-1" strike="noStrike">
              <a:solidFill>
                <a:srgbClr val="000000"/>
              </a:solidFill>
              <a:latin typeface="Arial"/>
            </a:endParaRPr>
          </a:p>
        </p:txBody>
      </p:sp>
      <p:sp>
        <p:nvSpPr>
          <p:cNvPr id="117" name="Rectangle : coins arrondis 6"/>
          <p:cNvSpPr/>
          <p:nvPr/>
        </p:nvSpPr>
        <p:spPr>
          <a:xfrm>
            <a:off x="3677760" y="159480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rgbClr val="262626"/>
                </a:solidFill>
                <a:latin typeface="Arial"/>
                <a:ea typeface="Arial"/>
              </a:rPr>
              <a:t>Φωνητικό</a:t>
            </a:r>
            <a:endParaRPr b="0" lang="en-US" sz="2000" spc="-1" strike="noStrike">
              <a:solidFill>
                <a:srgbClr val="000000"/>
              </a:solidFill>
              <a:latin typeface="Arial"/>
            </a:endParaRPr>
          </a:p>
        </p:txBody>
      </p:sp>
      <p:sp>
        <p:nvSpPr>
          <p:cNvPr id="118" name="Rectangle : coins arrondis 7"/>
          <p:cNvSpPr/>
          <p:nvPr/>
        </p:nvSpPr>
        <p:spPr>
          <a:xfrm>
            <a:off x="3677760" y="236340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rgbClr val="262626"/>
                </a:solidFill>
                <a:latin typeface="Arial"/>
                <a:ea typeface="Arial"/>
              </a:rPr>
              <a:t>Φωνολογία</a:t>
            </a:r>
            <a:endParaRPr b="0" lang="en-US" sz="2000" spc="-1" strike="noStrike">
              <a:solidFill>
                <a:srgbClr val="000000"/>
              </a:solidFill>
              <a:latin typeface="Arial"/>
            </a:endParaRPr>
          </a:p>
        </p:txBody>
      </p:sp>
      <p:sp>
        <p:nvSpPr>
          <p:cNvPr id="119" name="Rectangle : coins arrondis 8"/>
          <p:cNvSpPr/>
          <p:nvPr/>
        </p:nvSpPr>
        <p:spPr>
          <a:xfrm>
            <a:off x="3677760" y="342900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rgbClr val="262626"/>
                </a:solidFill>
                <a:latin typeface="Arial"/>
                <a:ea typeface="Arial"/>
              </a:rPr>
              <a:t>Λεξικό</a:t>
            </a:r>
            <a:endParaRPr b="0" lang="en-US" sz="2000" spc="-1" strike="noStrike">
              <a:solidFill>
                <a:srgbClr val="000000"/>
              </a:solidFill>
              <a:latin typeface="Arial"/>
            </a:endParaRPr>
          </a:p>
        </p:txBody>
      </p:sp>
      <p:sp>
        <p:nvSpPr>
          <p:cNvPr id="120" name="Rectangle : coins arrondis 9"/>
          <p:cNvSpPr/>
          <p:nvPr/>
        </p:nvSpPr>
        <p:spPr>
          <a:xfrm>
            <a:off x="3677760" y="411084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rgbClr val="262626"/>
                </a:solidFill>
                <a:latin typeface="Arial"/>
                <a:ea typeface="Arial"/>
              </a:rPr>
              <a:t>Μορφολογία</a:t>
            </a:r>
            <a:endParaRPr b="0" lang="en-US" sz="2000" spc="-1" strike="noStrike">
              <a:solidFill>
                <a:srgbClr val="000000"/>
              </a:solidFill>
              <a:latin typeface="Arial"/>
            </a:endParaRPr>
          </a:p>
        </p:txBody>
      </p:sp>
      <p:sp>
        <p:nvSpPr>
          <p:cNvPr id="121" name="Rectangle : coins arrondis 10"/>
          <p:cNvSpPr/>
          <p:nvPr/>
        </p:nvSpPr>
        <p:spPr>
          <a:xfrm>
            <a:off x="3677760" y="479268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rgbClr val="262626"/>
                </a:solidFill>
                <a:latin typeface="Arial"/>
                <a:ea typeface="Arial"/>
              </a:rPr>
              <a:t>Σύνταξη</a:t>
            </a:r>
            <a:endParaRPr b="0" lang="en-US" sz="2000" spc="-1" strike="noStrike">
              <a:solidFill>
                <a:srgbClr val="000000"/>
              </a:solidFill>
              <a:latin typeface="Arial"/>
            </a:endParaRPr>
          </a:p>
        </p:txBody>
      </p:sp>
      <p:sp>
        <p:nvSpPr>
          <p:cNvPr id="122" name="Rectangle : coins arrondis 11"/>
          <p:cNvSpPr/>
          <p:nvPr/>
        </p:nvSpPr>
        <p:spPr>
          <a:xfrm>
            <a:off x="3677760" y="570384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l" sz="2000" spc="-1" strike="noStrike">
                <a:solidFill>
                  <a:srgbClr val="262626"/>
                </a:solidFill>
                <a:latin typeface="Arial"/>
                <a:ea typeface="Arial"/>
              </a:rPr>
              <a:t>Πραγματολογία</a:t>
            </a:r>
            <a:endParaRPr b="0" lang="en-US" sz="2000" spc="-1" strike="noStrike">
              <a:solidFill>
                <a:srgbClr val="000000"/>
              </a:solidFill>
              <a:latin typeface="Arial"/>
            </a:endParaRPr>
          </a:p>
        </p:txBody>
      </p:sp>
      <p:cxnSp>
        <p:nvCxnSpPr>
          <p:cNvPr id="123" name="Connecteur droit avec flèche 12"/>
          <p:cNvCxnSpPr>
            <a:endCxn id="117" idx="1"/>
          </p:cNvCxnSpPr>
          <p:nvPr/>
        </p:nvCxnSpPr>
        <p:spPr>
          <a:xfrm flipV="1">
            <a:off x="2712960" y="1864440"/>
            <a:ext cx="964800" cy="349920"/>
          </a:xfrm>
          <a:prstGeom prst="straightConnector1">
            <a:avLst/>
          </a:prstGeom>
          <a:ln w="19050">
            <a:solidFill>
              <a:srgbClr val="2c2830"/>
            </a:solidFill>
            <a:round/>
            <a:tailEnd len="med" type="triangle" w="med"/>
          </a:ln>
        </p:spPr>
      </p:cxnSp>
      <p:cxnSp>
        <p:nvCxnSpPr>
          <p:cNvPr id="124" name="Connecteur droit avec flèche 13"/>
          <p:cNvCxnSpPr>
            <a:stCxn id="114" idx="3"/>
            <a:endCxn id="118" idx="1"/>
          </p:cNvCxnSpPr>
          <p:nvPr/>
        </p:nvCxnSpPr>
        <p:spPr>
          <a:xfrm>
            <a:off x="2712960" y="2253960"/>
            <a:ext cx="964800" cy="379440"/>
          </a:xfrm>
          <a:prstGeom prst="straightConnector1">
            <a:avLst/>
          </a:prstGeom>
          <a:ln w="19050">
            <a:solidFill>
              <a:srgbClr val="2c2830"/>
            </a:solidFill>
            <a:round/>
            <a:tailEnd len="med" type="triangle" w="med"/>
          </a:ln>
        </p:spPr>
      </p:cxnSp>
      <p:cxnSp>
        <p:nvCxnSpPr>
          <p:cNvPr id="125" name="Connecteur droit avec flèche 14"/>
          <p:cNvCxnSpPr>
            <a:endCxn id="121" idx="1"/>
          </p:cNvCxnSpPr>
          <p:nvPr/>
        </p:nvCxnSpPr>
        <p:spPr>
          <a:xfrm>
            <a:off x="2730600" y="4457160"/>
            <a:ext cx="947160" cy="605520"/>
          </a:xfrm>
          <a:prstGeom prst="straightConnector1">
            <a:avLst/>
          </a:prstGeom>
          <a:ln w="19050">
            <a:solidFill>
              <a:srgbClr val="2c2830"/>
            </a:solidFill>
            <a:round/>
            <a:tailEnd len="med" type="triangle" w="med"/>
          </a:ln>
        </p:spPr>
      </p:cxnSp>
      <p:cxnSp>
        <p:nvCxnSpPr>
          <p:cNvPr id="126" name="Connecteur droit avec flèche 15"/>
          <p:cNvCxnSpPr>
            <a:endCxn id="119" idx="1"/>
          </p:cNvCxnSpPr>
          <p:nvPr/>
        </p:nvCxnSpPr>
        <p:spPr>
          <a:xfrm flipV="1">
            <a:off x="2712960" y="3698640"/>
            <a:ext cx="964800" cy="467280"/>
          </a:xfrm>
          <a:prstGeom prst="straightConnector1">
            <a:avLst/>
          </a:prstGeom>
          <a:ln w="19050">
            <a:solidFill>
              <a:srgbClr val="2c2830"/>
            </a:solidFill>
            <a:round/>
            <a:tailEnd len="med" type="triangle" w="med"/>
          </a:ln>
        </p:spPr>
      </p:cxnSp>
      <p:cxnSp>
        <p:nvCxnSpPr>
          <p:cNvPr id="127" name="Connecteur droit avec flèche 16"/>
          <p:cNvCxnSpPr>
            <a:endCxn id="120" idx="1"/>
          </p:cNvCxnSpPr>
          <p:nvPr/>
        </p:nvCxnSpPr>
        <p:spPr>
          <a:xfrm>
            <a:off x="2730600" y="4380480"/>
            <a:ext cx="947160" cy="360"/>
          </a:xfrm>
          <a:prstGeom prst="straightConnector1">
            <a:avLst/>
          </a:prstGeom>
          <a:ln w="19050">
            <a:solidFill>
              <a:srgbClr val="2c2830"/>
            </a:solidFill>
            <a:round/>
            <a:tailEnd len="med" type="triangle" w="med"/>
          </a:ln>
        </p:spPr>
      </p:cxnSp>
      <p:cxnSp>
        <p:nvCxnSpPr>
          <p:cNvPr id="128" name="Connecteur droit avec flèche 17"/>
          <p:cNvCxnSpPr/>
          <p:nvPr/>
        </p:nvCxnSpPr>
        <p:spPr>
          <a:xfrm>
            <a:off x="2730600" y="5973480"/>
            <a:ext cx="947160" cy="360"/>
          </a:xfrm>
          <a:prstGeom prst="straightConnector1">
            <a:avLst/>
          </a:prstGeom>
          <a:ln w="19050">
            <a:solidFill>
              <a:srgbClr val="2c2830"/>
            </a:solidFill>
            <a:round/>
            <a:tailEnd len="med" type="triangle" w="med"/>
          </a:ln>
        </p:spPr>
      </p:cxnSp>
      <p:cxnSp>
        <p:nvCxnSpPr>
          <p:cNvPr id="129" name="Connecteur droit avec flèche 18"/>
          <p:cNvCxnSpPr/>
          <p:nvPr/>
        </p:nvCxnSpPr>
        <p:spPr>
          <a:xfrm>
            <a:off x="5906880" y="1864440"/>
            <a:ext cx="947160" cy="360"/>
          </a:xfrm>
          <a:prstGeom prst="straightConnector1">
            <a:avLst/>
          </a:prstGeom>
          <a:ln w="19050">
            <a:solidFill>
              <a:srgbClr val="2c2830"/>
            </a:solidFill>
            <a:round/>
            <a:tailEnd len="med" type="triangle" w="med"/>
          </a:ln>
        </p:spPr>
      </p:cxnSp>
      <p:cxnSp>
        <p:nvCxnSpPr>
          <p:cNvPr id="130" name="Connecteur droit avec flèche 19"/>
          <p:cNvCxnSpPr/>
          <p:nvPr/>
        </p:nvCxnSpPr>
        <p:spPr>
          <a:xfrm>
            <a:off x="5906880" y="2633040"/>
            <a:ext cx="947160" cy="360"/>
          </a:xfrm>
          <a:prstGeom prst="straightConnector1">
            <a:avLst/>
          </a:prstGeom>
          <a:ln w="19050">
            <a:solidFill>
              <a:srgbClr val="2c2830"/>
            </a:solidFill>
            <a:round/>
            <a:tailEnd len="med" type="triangle" w="med"/>
          </a:ln>
        </p:spPr>
      </p:cxnSp>
      <p:cxnSp>
        <p:nvCxnSpPr>
          <p:cNvPr id="131" name="Connecteur droit avec flèche 21"/>
          <p:cNvCxnSpPr/>
          <p:nvPr/>
        </p:nvCxnSpPr>
        <p:spPr>
          <a:xfrm>
            <a:off x="5906880" y="3698640"/>
            <a:ext cx="947160" cy="360"/>
          </a:xfrm>
          <a:prstGeom prst="straightConnector1">
            <a:avLst/>
          </a:prstGeom>
          <a:ln w="19050">
            <a:solidFill>
              <a:srgbClr val="2c2830"/>
            </a:solidFill>
            <a:round/>
            <a:tailEnd len="med" type="triangle" w="med"/>
          </a:ln>
        </p:spPr>
      </p:cxnSp>
      <p:cxnSp>
        <p:nvCxnSpPr>
          <p:cNvPr id="132" name="Connecteur droit avec flèche 22"/>
          <p:cNvCxnSpPr/>
          <p:nvPr/>
        </p:nvCxnSpPr>
        <p:spPr>
          <a:xfrm>
            <a:off x="5906880" y="4333680"/>
            <a:ext cx="947160" cy="360"/>
          </a:xfrm>
          <a:prstGeom prst="straightConnector1">
            <a:avLst/>
          </a:prstGeom>
          <a:ln w="19050">
            <a:solidFill>
              <a:srgbClr val="2c2830"/>
            </a:solidFill>
            <a:round/>
            <a:tailEnd len="med" type="triangle" w="med"/>
          </a:ln>
        </p:spPr>
      </p:cxnSp>
      <p:cxnSp>
        <p:nvCxnSpPr>
          <p:cNvPr id="133" name="Connecteur droit avec flèche 23"/>
          <p:cNvCxnSpPr/>
          <p:nvPr/>
        </p:nvCxnSpPr>
        <p:spPr>
          <a:xfrm>
            <a:off x="5906880" y="4968720"/>
            <a:ext cx="947160" cy="360"/>
          </a:xfrm>
          <a:prstGeom prst="straightConnector1">
            <a:avLst/>
          </a:prstGeom>
          <a:ln w="19050">
            <a:solidFill>
              <a:srgbClr val="2c2830"/>
            </a:solidFill>
            <a:round/>
            <a:tailEnd len="med" type="triangle" w="med"/>
          </a:ln>
        </p:spPr>
      </p:cxnSp>
      <p:cxnSp>
        <p:nvCxnSpPr>
          <p:cNvPr id="134" name="Connecteur droit avec flèche 24"/>
          <p:cNvCxnSpPr/>
          <p:nvPr/>
        </p:nvCxnSpPr>
        <p:spPr>
          <a:xfrm>
            <a:off x="5906880" y="5973480"/>
            <a:ext cx="947160" cy="360"/>
          </a:xfrm>
          <a:prstGeom prst="straightConnector1">
            <a:avLst/>
          </a:prstGeom>
          <a:ln w="19050">
            <a:solidFill>
              <a:srgbClr val="2c2830"/>
            </a:solidFill>
            <a:round/>
            <a:tailEnd len="med" type="triangle" w="med"/>
          </a:ln>
        </p:spPr>
      </p:cxnSp>
      <p:sp>
        <p:nvSpPr>
          <p:cNvPr id="135" name="ZoneTexte 25"/>
          <p:cNvSpPr/>
          <p:nvPr/>
        </p:nvSpPr>
        <p:spPr>
          <a:xfrm>
            <a:off x="7158600" y="1686960"/>
            <a:ext cx="1572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800" spc="-1" strike="noStrike">
                <a:solidFill>
                  <a:srgbClr val="262626"/>
                </a:solidFill>
                <a:latin typeface="Arial"/>
                <a:ea typeface="Arial"/>
              </a:rPr>
              <a:t>Μελέτη ήχους</a:t>
            </a:r>
            <a:endParaRPr b="0" lang="en-US" sz="1800" spc="-1" strike="noStrike">
              <a:solidFill>
                <a:srgbClr val="000000"/>
              </a:solidFill>
              <a:latin typeface="Arial"/>
            </a:endParaRPr>
          </a:p>
        </p:txBody>
      </p:sp>
      <p:sp>
        <p:nvSpPr>
          <p:cNvPr id="136" name="ZoneTexte 26"/>
          <p:cNvSpPr/>
          <p:nvPr/>
        </p:nvSpPr>
        <p:spPr>
          <a:xfrm>
            <a:off x="7122600" y="2493000"/>
            <a:ext cx="3683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800" spc="-1" strike="noStrike">
                <a:solidFill>
                  <a:srgbClr val="262626"/>
                </a:solidFill>
                <a:latin typeface="Arial"/>
                <a:ea typeface="Arial"/>
              </a:rPr>
              <a:t>Σωστή οργάνωση και συνδυασμός</a:t>
            </a:r>
            <a:endParaRPr b="0" lang="en-US" sz="1800" spc="-1" strike="noStrike">
              <a:solidFill>
                <a:srgbClr val="000000"/>
              </a:solidFill>
              <a:latin typeface="Arial"/>
            </a:endParaRPr>
          </a:p>
        </p:txBody>
      </p:sp>
      <p:sp>
        <p:nvSpPr>
          <p:cNvPr id="137" name="ZoneTexte 27"/>
          <p:cNvSpPr/>
          <p:nvPr/>
        </p:nvSpPr>
        <p:spPr>
          <a:xfrm>
            <a:off x="7064640" y="3479400"/>
            <a:ext cx="1116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800" spc="-1" strike="noStrike">
                <a:solidFill>
                  <a:srgbClr val="262626"/>
                </a:solidFill>
                <a:latin typeface="Arial"/>
                <a:ea typeface="Arial"/>
              </a:rPr>
              <a:t>Λεξιλόγιο</a:t>
            </a:r>
            <a:endParaRPr b="0" lang="en-US" sz="1800" spc="-1" strike="noStrike">
              <a:solidFill>
                <a:srgbClr val="000000"/>
              </a:solidFill>
              <a:latin typeface="Arial"/>
            </a:endParaRPr>
          </a:p>
        </p:txBody>
      </p:sp>
      <p:sp>
        <p:nvSpPr>
          <p:cNvPr id="138" name="ZoneTexte 28"/>
          <p:cNvSpPr/>
          <p:nvPr/>
        </p:nvSpPr>
        <p:spPr>
          <a:xfrm>
            <a:off x="7246440" y="4110840"/>
            <a:ext cx="2063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800" spc="-1" strike="noStrike">
                <a:solidFill>
                  <a:srgbClr val="262626"/>
                </a:solidFill>
                <a:latin typeface="Arial"/>
                <a:ea typeface="Arial"/>
              </a:rPr>
              <a:t>λέξεων και μορφές</a:t>
            </a:r>
            <a:endParaRPr b="0" lang="en-US" sz="1800" spc="-1" strike="noStrike">
              <a:solidFill>
                <a:srgbClr val="000000"/>
              </a:solidFill>
              <a:latin typeface="Arial"/>
            </a:endParaRPr>
          </a:p>
        </p:txBody>
      </p:sp>
      <p:sp>
        <p:nvSpPr>
          <p:cNvPr id="139" name="ZoneTexte 29"/>
          <p:cNvSpPr/>
          <p:nvPr/>
        </p:nvSpPr>
        <p:spPr>
          <a:xfrm>
            <a:off x="7119720" y="4707720"/>
            <a:ext cx="1788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800" spc="-1" strike="noStrike">
                <a:solidFill>
                  <a:srgbClr val="262626"/>
                </a:solidFill>
                <a:latin typeface="Arial"/>
                <a:ea typeface="Arial"/>
              </a:rPr>
              <a:t>Δομή πρότασης</a:t>
            </a:r>
            <a:endParaRPr b="0" lang="en-US" sz="1800" spc="-1" strike="noStrike">
              <a:solidFill>
                <a:srgbClr val="000000"/>
              </a:solidFill>
              <a:latin typeface="Arial"/>
            </a:endParaRPr>
          </a:p>
        </p:txBody>
      </p:sp>
      <p:sp>
        <p:nvSpPr>
          <p:cNvPr id="140" name="ZoneTexte 30"/>
          <p:cNvSpPr/>
          <p:nvPr/>
        </p:nvSpPr>
        <p:spPr>
          <a:xfrm>
            <a:off x="6922440" y="5789160"/>
            <a:ext cx="23680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800" spc="-1" strike="noStrike">
                <a:solidFill>
                  <a:srgbClr val="262626"/>
                </a:solidFill>
                <a:latin typeface="Arial"/>
                <a:ea typeface="Arial"/>
              </a:rPr>
              <a:t>Το νόημα στο πλαίσιο</a:t>
            </a:r>
            <a:endParaRPr b="0" lang="en-US" sz="1800" spc="-1" strike="noStrike">
              <a:solidFill>
                <a:srgbClr val="000000"/>
              </a:solidFill>
              <a:latin typeface="Arial"/>
            </a:endParaRPr>
          </a:p>
        </p:txBody>
      </p:sp>
      <p:sp>
        <p:nvSpPr>
          <p:cNvPr id="141" name="ZoneTexte 32"/>
          <p:cNvSpPr/>
          <p:nvPr/>
        </p:nvSpPr>
        <p:spPr>
          <a:xfrm>
            <a:off x="9919800" y="4045680"/>
            <a:ext cx="1343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800" spc="-1" strike="noStrike">
                <a:solidFill>
                  <a:srgbClr val="262626"/>
                </a:solidFill>
                <a:latin typeface="Arial"/>
                <a:ea typeface="Arial"/>
              </a:rPr>
              <a:t>Γραμματική</a:t>
            </a:r>
            <a:endParaRPr b="0" lang="en-US" sz="1800" spc="-1" strike="noStrike">
              <a:solidFill>
                <a:srgbClr val="000000"/>
              </a:solidFill>
              <a:latin typeface="Arial"/>
            </a:endParaRPr>
          </a:p>
        </p:txBody>
      </p:sp>
      <p:sp>
        <p:nvSpPr>
          <p:cNvPr id="142" name="Bulle rectangulaire à coins arrondis 34"/>
          <p:cNvSpPr/>
          <p:nvPr/>
        </p:nvSpPr>
        <p:spPr>
          <a:xfrm>
            <a:off x="347400" y="1472040"/>
            <a:ext cx="11118960" cy="1555560"/>
          </a:xfrm>
          <a:prstGeom prst="wedgeRoundRectCallout">
            <a:avLst>
              <a:gd name="adj1" fmla="val 22521"/>
              <a:gd name="adj2" fmla="val 49742"/>
              <a:gd name="adj3" fmla="val 16667"/>
            </a:avLst>
          </a:prstGeom>
          <a:solidFill>
            <a:schemeClr val="tx2">
              <a:lumMod val="90000"/>
              <a:alpha val="68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43" name="Bulle rectangulaire à coins arrondis 35"/>
          <p:cNvSpPr/>
          <p:nvPr/>
        </p:nvSpPr>
        <p:spPr>
          <a:xfrm>
            <a:off x="404280" y="3252960"/>
            <a:ext cx="10987560" cy="705600"/>
          </a:xfrm>
          <a:prstGeom prst="wedgeRoundRectCallout">
            <a:avLst>
              <a:gd name="adj1" fmla="val 22521"/>
              <a:gd name="adj2" fmla="val 49742"/>
              <a:gd name="adj3" fmla="val 16667"/>
            </a:avLst>
          </a:prstGeom>
          <a:solidFill>
            <a:schemeClr val="tx2">
              <a:lumMod val="90000"/>
              <a:alpha val="68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44" name="Bulle rectangulaire à coins arrondis 1"/>
          <p:cNvSpPr/>
          <p:nvPr/>
        </p:nvSpPr>
        <p:spPr>
          <a:xfrm>
            <a:off x="272880" y="5547240"/>
            <a:ext cx="11118960" cy="738000"/>
          </a:xfrm>
          <a:prstGeom prst="wedgeRoundRectCallout">
            <a:avLst>
              <a:gd name="adj1" fmla="val 22521"/>
              <a:gd name="adj2" fmla="val 49742"/>
              <a:gd name="adj3" fmla="val 16667"/>
            </a:avLst>
          </a:prstGeom>
          <a:solidFill>
            <a:schemeClr val="tx2">
              <a:lumMod val="90000"/>
              <a:alpha val="68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46" name="PlaceHolder 1"/>
          <p:cNvSpPr>
            <a:spLocks noGrp="1"/>
          </p:cNvSpPr>
          <p:nvPr>
            <p:ph type="sldNum" idx="12"/>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CBE709AF-7727-40A2-9A16-E0773C2D8937}"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47"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48" name="PlaceHolder 2"/>
          <p:cNvSpPr>
            <a:spLocks noGrp="1"/>
          </p:cNvSpPr>
          <p:nvPr>
            <p:ph type="ftr" idx="13"/>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49" name="Rectangle 2"/>
          <p:cNvSpPr/>
          <p:nvPr/>
        </p:nvSpPr>
        <p:spPr>
          <a:xfrm>
            <a:off x="1767240" y="37368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el" sz="2400" spc="-1" strike="noStrike">
                <a:solidFill>
                  <a:schemeClr val="accent1"/>
                </a:solidFill>
                <a:latin typeface="Arial"/>
                <a:ea typeface="Arial"/>
              </a:rPr>
              <a:t>Αναπτυξιακή τροχιά</a:t>
            </a:r>
            <a:endParaRPr b="0" lang="en-US" sz="2400" spc="-1" strike="noStrike">
              <a:solidFill>
                <a:srgbClr val="000000"/>
              </a:solidFill>
              <a:latin typeface="Arial"/>
            </a:endParaRPr>
          </a:p>
        </p:txBody>
      </p:sp>
      <p:sp>
        <p:nvSpPr>
          <p:cNvPr id="150" name="ZoneTexte 14"/>
          <p:cNvSpPr/>
          <p:nvPr/>
        </p:nvSpPr>
        <p:spPr>
          <a:xfrm>
            <a:off x="444240" y="4979160"/>
            <a:ext cx="9568080" cy="16750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l" sz="2000" spc="-1" strike="noStrike">
                <a:solidFill>
                  <a:srgbClr val="000000"/>
                </a:solidFill>
                <a:latin typeface="Arial"/>
                <a:ea typeface="Arial"/>
              </a:rPr>
              <a:t>Για ισοδύναμο διάρκεια εκφοράς​</a:t>
            </a:r>
            <a:endParaRPr b="0" lang="en-US" sz="2000" spc="-1" strike="noStrike">
              <a:solidFill>
                <a:srgbClr val="000000"/>
              </a:solidFill>
              <a:latin typeface="Arial"/>
            </a:endParaRPr>
          </a:p>
          <a:p>
            <a:pPr marL="1025640" indent="-336600">
              <a:lnSpc>
                <a:spcPct val="130000"/>
              </a:lnSpc>
              <a:buClr>
                <a:srgbClr val="000000"/>
              </a:buClr>
              <a:buFont typeface="Arial"/>
              <a:buChar char="•"/>
            </a:pPr>
            <a:r>
              <a:rPr b="0" lang="el" sz="2000" spc="-1" strike="noStrike">
                <a:solidFill>
                  <a:srgbClr val="000000"/>
                </a:solidFill>
                <a:latin typeface="Arial"/>
                <a:ea typeface="Arial"/>
              </a:rPr>
              <a:t>παράλειψη περισσότερης λειτουργίας λέξεις (πρβλ. πρόθεση )</a:t>
            </a:r>
            <a:endParaRPr b="0" lang="en-US" sz="2000" spc="-1" strike="noStrike">
              <a:solidFill>
                <a:srgbClr val="000000"/>
              </a:solidFill>
              <a:latin typeface="Arial"/>
            </a:endParaRPr>
          </a:p>
          <a:p>
            <a:pPr marL="1025640" indent="-336600">
              <a:lnSpc>
                <a:spcPct val="130000"/>
              </a:lnSpc>
              <a:buClr>
                <a:srgbClr val="000000"/>
              </a:buClr>
              <a:buFont typeface="Arial"/>
              <a:buChar char="•"/>
            </a:pPr>
            <a:r>
              <a:rPr b="0" lang="el" sz="2000" spc="-1" strike="noStrike">
                <a:solidFill>
                  <a:srgbClr val="000000"/>
                </a:solidFill>
                <a:latin typeface="Arial"/>
                <a:ea typeface="Arial"/>
              </a:rPr>
              <a:t>έχουν μεγαλύτερη δυσκολία βαθμολόγηση αριθμός και ώρα</a:t>
            </a:r>
            <a:endParaRPr b="0" lang="en-US" sz="2000" spc="-1" strike="noStrike">
              <a:solidFill>
                <a:srgbClr val="000000"/>
              </a:solidFill>
              <a:latin typeface="Arial"/>
            </a:endParaRPr>
          </a:p>
          <a:p>
            <a:pPr marL="1025640" indent="-336600">
              <a:lnSpc>
                <a:spcPct val="130000"/>
              </a:lnSpc>
              <a:buClr>
                <a:srgbClr val="000000"/>
              </a:buClr>
              <a:buFont typeface="Arial"/>
              <a:buChar char="•"/>
            </a:pPr>
            <a:r>
              <a:rPr b="0" lang="el" sz="2000" spc="-1" strike="noStrike">
                <a:solidFill>
                  <a:srgbClr val="000000"/>
                </a:solidFill>
                <a:latin typeface="Arial"/>
                <a:ea typeface="Arial"/>
              </a:rPr>
              <a:t>χρησιμοποιήστε λιγότερα βοηθητικά και αντωνυμίες</a:t>
            </a:r>
            <a:endParaRPr b="0" lang="en-US" sz="2000" spc="-1" strike="noStrike">
              <a:solidFill>
                <a:srgbClr val="000000"/>
              </a:solidFill>
              <a:latin typeface="Arial"/>
            </a:endParaRPr>
          </a:p>
        </p:txBody>
      </p:sp>
      <p:sp>
        <p:nvSpPr>
          <p:cNvPr id="151" name="ZoneTexte 22"/>
          <p:cNvSpPr/>
          <p:nvPr/>
        </p:nvSpPr>
        <p:spPr>
          <a:xfrm>
            <a:off x="2398680" y="1655640"/>
            <a:ext cx="249804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l" sz="1600" spc="-1" strike="noStrike">
                <a:solidFill>
                  <a:srgbClr val="c00000"/>
                </a:solidFill>
                <a:latin typeface="Arial"/>
                <a:ea typeface="Arial"/>
              </a:rPr>
              <a:t>MLU &lt;&lt;&lt;&lt; αναμενόμενη νοητική ηλικία επίπεδο</a:t>
            </a:r>
            <a:endParaRPr b="0" lang="en-US" sz="1600" spc="-1" strike="noStrike">
              <a:solidFill>
                <a:srgbClr val="000000"/>
              </a:solidFill>
              <a:latin typeface="Arial"/>
            </a:endParaRPr>
          </a:p>
        </p:txBody>
      </p:sp>
      <p:sp>
        <p:nvSpPr>
          <p:cNvPr id="152" name="Ellipse 27"/>
          <p:cNvSpPr/>
          <p:nvPr/>
        </p:nvSpPr>
        <p:spPr>
          <a:xfrm>
            <a:off x="5157720" y="173844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53" name="Ellipse 28"/>
          <p:cNvSpPr/>
          <p:nvPr/>
        </p:nvSpPr>
        <p:spPr>
          <a:xfrm>
            <a:off x="9827640" y="180720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54" name="Ellipse 29"/>
          <p:cNvSpPr/>
          <p:nvPr/>
        </p:nvSpPr>
        <p:spPr>
          <a:xfrm>
            <a:off x="4398120" y="299844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55" name="Ellipse 30"/>
          <p:cNvSpPr/>
          <p:nvPr/>
        </p:nvSpPr>
        <p:spPr>
          <a:xfrm>
            <a:off x="8491320" y="303156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graphicFrame>
        <p:nvGraphicFramePr>
          <p:cNvPr id="156" name="Graphique 31"/>
          <p:cNvGraphicFramePr/>
          <p:nvPr/>
        </p:nvGraphicFramePr>
        <p:xfrm>
          <a:off x="1938960" y="1083960"/>
          <a:ext cx="8763120" cy="3940560"/>
        </p:xfrm>
        <a:graphic>
          <a:graphicData uri="http://schemas.openxmlformats.org/drawingml/2006/chart">
            <c:chart xmlns:c="http://schemas.openxmlformats.org/drawingml/2006/chart" xmlns:r="http://schemas.openxmlformats.org/officeDocument/2006/relationships" r:id="rId3"/>
          </a:graphicData>
        </a:graphic>
      </p:graphicFrame>
      <p:cxnSp>
        <p:nvCxnSpPr>
          <p:cNvPr id="157" name="Connecteur droit 33"/>
          <p:cNvCxnSpPr/>
          <p:nvPr/>
        </p:nvCxnSpPr>
        <p:spPr>
          <a:xfrm>
            <a:off x="5464800" y="1947960"/>
            <a:ext cx="360" cy="2366280"/>
          </a:xfrm>
          <a:prstGeom prst="straightConnector1">
            <a:avLst/>
          </a:prstGeom>
          <a:ln>
            <a:solidFill>
              <a:srgbClr val="8c7e8f"/>
            </a:solidFill>
            <a:round/>
          </a:ln>
        </p:spPr>
      </p:cxnSp>
      <p:cxnSp>
        <p:nvCxnSpPr>
          <p:cNvPr id="158" name="Connecteur droit 34"/>
          <p:cNvCxnSpPr/>
          <p:nvPr/>
        </p:nvCxnSpPr>
        <p:spPr>
          <a:xfrm>
            <a:off x="4726440" y="3130920"/>
            <a:ext cx="360" cy="1183320"/>
          </a:xfrm>
          <a:prstGeom prst="straightConnector1">
            <a:avLst/>
          </a:prstGeom>
          <a:ln>
            <a:solidFill>
              <a:srgbClr val="8c7e8f"/>
            </a:solidFill>
            <a:round/>
          </a:ln>
        </p:spPr>
      </p:cxnSp>
      <p:cxnSp>
        <p:nvCxnSpPr>
          <p:cNvPr id="159" name="Connecteur droit 36"/>
          <p:cNvCxnSpPr/>
          <p:nvPr/>
        </p:nvCxnSpPr>
        <p:spPr>
          <a:xfrm>
            <a:off x="8901720" y="3130920"/>
            <a:ext cx="360" cy="1183320"/>
          </a:xfrm>
          <a:prstGeom prst="straightConnector1">
            <a:avLst/>
          </a:prstGeom>
          <a:ln>
            <a:solidFill>
              <a:srgbClr val="8c7e8f"/>
            </a:solidFill>
            <a:round/>
          </a:ln>
        </p:spPr>
      </p:cxnSp>
      <p:cxnSp>
        <p:nvCxnSpPr>
          <p:cNvPr id="160" name="Connecteur droit 37"/>
          <p:cNvCxnSpPr/>
          <p:nvPr/>
        </p:nvCxnSpPr>
        <p:spPr>
          <a:xfrm>
            <a:off x="10243800" y="1919880"/>
            <a:ext cx="360" cy="2365920"/>
          </a:xfrm>
          <a:prstGeom prst="straightConnector1">
            <a:avLst/>
          </a:prstGeom>
          <a:ln>
            <a:solidFill>
              <a:srgbClr val="8c7e8f"/>
            </a:solidFill>
            <a:round/>
          </a:ln>
        </p:spPr>
      </p:cxnSp>
      <p:sp>
        <p:nvSpPr>
          <p:cNvPr id="161" name="ZoneTexte 38"/>
          <p:cNvSpPr/>
          <p:nvPr/>
        </p:nvSpPr>
        <p:spPr>
          <a:xfrm>
            <a:off x="10594800" y="4328640"/>
            <a:ext cx="6368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400" spc="-1" strike="noStrike">
                <a:solidFill>
                  <a:srgbClr val="595959"/>
                </a:solidFill>
                <a:latin typeface="Arial"/>
                <a:ea typeface="Arial"/>
              </a:rPr>
              <a:t>μήνες</a:t>
            </a:r>
            <a:endParaRPr b="0" lang="en-US" sz="1400" spc="-1" strike="noStrike">
              <a:solidFill>
                <a:srgbClr val="000000"/>
              </a:solidFill>
              <a:latin typeface="Arial"/>
            </a:endParaRPr>
          </a:p>
        </p:txBody>
      </p:sp>
      <p:sp>
        <p:nvSpPr>
          <p:cNvPr id="162" name="ZoneTexte 39"/>
          <p:cNvSpPr/>
          <p:nvPr/>
        </p:nvSpPr>
        <p:spPr>
          <a:xfrm rot="16200000">
            <a:off x="-50040" y="3078000"/>
            <a:ext cx="34696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400" spc="-1" strike="noStrike">
                <a:solidFill>
                  <a:srgbClr val="595959"/>
                </a:solidFill>
                <a:latin typeface="Arial"/>
                <a:ea typeface="Arial"/>
              </a:rPr>
              <a:t>Μέγιστος αριθμός λέξεων σε μια έκφραση</a:t>
            </a:r>
            <a:endParaRPr b="0" lang="en-US" sz="1400" spc="-1" strike="noStrike">
              <a:solidFill>
                <a:srgbClr val="000000"/>
              </a:solidFill>
              <a:latin typeface="Arial"/>
            </a:endParaRPr>
          </a:p>
        </p:txBody>
      </p:sp>
      <p:cxnSp>
        <p:nvCxnSpPr>
          <p:cNvPr id="163" name="Connecteur droit 1"/>
          <p:cNvCxnSpPr/>
          <p:nvPr/>
        </p:nvCxnSpPr>
        <p:spPr>
          <a:xfrm>
            <a:off x="10396080" y="2072160"/>
            <a:ext cx="360" cy="2366280"/>
          </a:xfrm>
          <a:prstGeom prst="straightConnector1">
            <a:avLst/>
          </a:prstGeom>
          <a:ln>
            <a:solidFill>
              <a:srgbClr val="8c7e8f"/>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65" name="PlaceHolder 1"/>
          <p:cNvSpPr>
            <a:spLocks noGrp="1"/>
          </p:cNvSpPr>
          <p:nvPr>
            <p:ph type="sldNum" idx="14"/>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9944EE09-ED21-4129-BEF2-46C431EDB00F}"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66"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67" name="PlaceHolder 2"/>
          <p:cNvSpPr>
            <a:spLocks noGrp="1"/>
          </p:cNvSpPr>
          <p:nvPr>
            <p:ph type="ftr" idx="15"/>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68" name="Rectangle 2"/>
          <p:cNvSpPr/>
          <p:nvPr/>
        </p:nvSpPr>
        <p:spPr>
          <a:xfrm>
            <a:off x="1767240" y="37368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el" sz="2400" spc="-1" strike="noStrike">
                <a:solidFill>
                  <a:schemeClr val="accent1"/>
                </a:solidFill>
                <a:latin typeface="Arial"/>
                <a:ea typeface="Arial"/>
              </a:rPr>
              <a:t>Συμπλοκοποίηση της μορφοσύνταξης σε τυπικά παιδιά</a:t>
            </a:r>
            <a:endParaRPr b="0" lang="en-US" sz="2400" spc="-1" strike="noStrike">
              <a:solidFill>
                <a:srgbClr val="000000"/>
              </a:solidFill>
              <a:latin typeface="Arial"/>
            </a:endParaRPr>
          </a:p>
        </p:txBody>
      </p:sp>
      <p:graphicFrame>
        <p:nvGraphicFramePr>
          <p:cNvPr id="169" name="Tableau 4"/>
          <p:cNvGraphicFramePr/>
          <p:nvPr/>
        </p:nvGraphicFramePr>
        <p:xfrm>
          <a:off x="404280" y="1400760"/>
          <a:ext cx="11318760" cy="5158080"/>
        </p:xfrm>
        <a:graphic>
          <a:graphicData uri="http://schemas.openxmlformats.org/drawingml/2006/table">
            <a:tbl>
              <a:tblPr/>
              <a:tblGrid>
                <a:gridCol w="1560600"/>
                <a:gridCol w="3357000"/>
                <a:gridCol w="6400800"/>
              </a:tblGrid>
              <a:tr h="34524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Ηλικία</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Συντακτική πολυπλοκότητα</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nSpc>
                          <a:spcPct val="120000"/>
                        </a:lnSpc>
                        <a:spcBef>
                          <a:spcPts val="601"/>
                        </a:spcBef>
                      </a:pPr>
                      <a:r>
                        <a:rPr b="1" lang="el" sz="1800" spc="-1" strike="noStrike">
                          <a:solidFill>
                            <a:schemeClr val="lt1"/>
                          </a:solidFill>
                          <a:latin typeface="Arial"/>
                          <a:ea typeface="Arial"/>
                        </a:rPr>
                        <a:t>Περιγραφή</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7060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12-18 μηνών έως 2 ετώ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el" sz="1800" spc="-1" strike="noStrike">
                          <a:solidFill>
                            <a:schemeClr val="dk1"/>
                          </a:solidFill>
                          <a:latin typeface="Arial"/>
                          <a:ea typeface="Arial"/>
                        </a:rPr>
                        <a:t>Πρόταση ενός στοιχείου</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el" sz="1800" spc="-1" strike="noStrike">
                          <a:solidFill>
                            <a:schemeClr val="dk1"/>
                          </a:solidFill>
                          <a:latin typeface="Arial"/>
                          <a:ea typeface="Arial"/>
                        </a:rPr>
                        <a:t>Μόνο ουσιαστικό ή ρήμα</a:t>
                      </a:r>
                      <a:endParaRPr b="0" lang="en-US" sz="1800" spc="-1" strike="noStrike">
                        <a:solidFill>
                          <a:srgbClr val="000000"/>
                        </a:solidFill>
                        <a:latin typeface="Arial"/>
                      </a:endParaRPr>
                    </a:p>
                    <a:p>
                      <a:pPr>
                        <a:lnSpc>
                          <a:spcPct val="120000"/>
                        </a:lnSpc>
                        <a:spcBef>
                          <a:spcPts val="601"/>
                        </a:spcBef>
                      </a:pPr>
                      <a:r>
                        <a:rPr b="0" lang="el" sz="1800" spc="-1" strike="noStrike">
                          <a:solidFill>
                            <a:schemeClr val="dk1"/>
                          </a:solidFill>
                          <a:latin typeface="Arial"/>
                          <a:ea typeface="Arial"/>
                        </a:rPr>
                        <a:t>Έτοιμες φόρμουλες</a:t>
                      </a:r>
                      <a:endParaRPr b="0" lang="en-US" sz="1800" spc="-1" strike="noStrike">
                        <a:solidFill>
                          <a:srgbClr val="000000"/>
                        </a:solidFill>
                        <a:latin typeface="Arial"/>
                      </a:endParaRPr>
                    </a:p>
                    <a:p>
                      <a:pPr>
                        <a:lnSpc>
                          <a:spcPct val="120000"/>
                        </a:lnSpc>
                        <a:spcBef>
                          <a:spcPts val="601"/>
                        </a:spcBef>
                      </a:pPr>
                      <a:r>
                        <a:rPr b="0" lang="el" sz="1800" spc="-1" strike="noStrike">
                          <a:solidFill>
                            <a:schemeClr val="dk1"/>
                          </a:solidFill>
                          <a:latin typeface="Arial"/>
                          <a:ea typeface="Arial"/>
                        </a:rPr>
                        <a:t>Περιεχόμενο απαραίτητο για την κατανόηση</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r h="143784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2 ετών έως 2, 6 ετώ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el" sz="1800" spc="-1" strike="noStrike">
                          <a:solidFill>
                            <a:schemeClr val="dk1"/>
                          </a:solidFill>
                          <a:latin typeface="Arial"/>
                          <a:ea typeface="Arial"/>
                        </a:rPr>
                        <a:t>Πρόταση δύο στοιχείω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c>
                  <a:txBody>
                    <a:bodyPr lIns="38520" rIns="38520" tIns="0" bIns="0" anchor="t">
                      <a:noAutofit/>
                    </a:bodyPr>
                    <a:p>
                      <a:pPr>
                        <a:lnSpc>
                          <a:spcPct val="120000"/>
                        </a:lnSpc>
                        <a:spcBef>
                          <a:spcPts val="601"/>
                        </a:spcBef>
                      </a:pPr>
                      <a:r>
                        <a:rPr b="0" lang="el" sz="1800" spc="-1" strike="noStrike">
                          <a:solidFill>
                            <a:schemeClr val="dk1"/>
                          </a:solidFill>
                          <a:latin typeface="Arial"/>
                          <a:ea typeface="Arial"/>
                        </a:rPr>
                        <a:t>Αύξηση της πολυπλοκότητας των φράσεων</a:t>
                      </a:r>
                      <a:endParaRPr b="0" lang="en-US" sz="1800" spc="-1" strike="noStrike">
                        <a:solidFill>
                          <a:srgbClr val="000000"/>
                        </a:solidFill>
                        <a:latin typeface="Arial"/>
                      </a:endParaRPr>
                    </a:p>
                    <a:p>
                      <a:pPr marL="716040">
                        <a:lnSpc>
                          <a:spcPct val="120000"/>
                        </a:lnSpc>
                        <a:spcBef>
                          <a:spcPts val="601"/>
                        </a:spcBef>
                        <a:tabLst>
                          <a:tab algn="l" pos="0"/>
                        </a:tabLst>
                      </a:pPr>
                      <a:r>
                        <a:rPr b="0" lang="el" sz="1800" spc="-1" strike="noStrike">
                          <a:solidFill>
                            <a:schemeClr val="dk1"/>
                          </a:solidFill>
                          <a:latin typeface="Arial"/>
                          <a:ea typeface="Arial"/>
                        </a:rPr>
                        <a:t>“ </a:t>
                      </a:r>
                      <a:r>
                        <a:rPr b="0" i="1" lang="el" sz="1800" spc="-1" strike="noStrike">
                          <a:solidFill>
                            <a:schemeClr val="dk1"/>
                          </a:solidFill>
                          <a:latin typeface="Arial"/>
                          <a:ea typeface="Arial"/>
                        </a:rPr>
                        <a:t>μπιμπερό </a:t>
                      </a:r>
                      <a:r>
                        <a:rPr b="0" lang="el" sz="1800" spc="-1" strike="noStrike">
                          <a:solidFill>
                            <a:schemeClr val="dk1"/>
                          </a:solidFill>
                          <a:latin typeface="Arial"/>
                          <a:ea typeface="Arial"/>
                        </a:rPr>
                        <a:t>” = το μπιμπερό του μωρού</a:t>
                      </a:r>
                      <a:endParaRPr b="0" lang="en-US" sz="1800" spc="-1" strike="noStrike">
                        <a:solidFill>
                          <a:srgbClr val="000000"/>
                        </a:solidFill>
                        <a:latin typeface="Arial"/>
                      </a:endParaRPr>
                    </a:p>
                    <a:p>
                      <a:pPr marL="716040">
                        <a:lnSpc>
                          <a:spcPct val="120000"/>
                        </a:lnSpc>
                        <a:spcBef>
                          <a:spcPts val="601"/>
                        </a:spcBef>
                        <a:tabLst>
                          <a:tab algn="l" pos="0"/>
                        </a:tabLst>
                      </a:pPr>
                      <a:r>
                        <a:rPr b="0" lang="el" sz="1800" spc="-1" strike="noStrike">
                          <a:solidFill>
                            <a:schemeClr val="dk1"/>
                          </a:solidFill>
                          <a:latin typeface="Arial"/>
                          <a:ea typeface="Arial"/>
                        </a:rPr>
                        <a:t>Διαδοχή υποκειμένου-ρήματος</a:t>
                      </a:r>
                      <a:endParaRPr b="0" lang="en-US" sz="1800" spc="-1" strike="noStrike">
                        <a:solidFill>
                          <a:srgbClr val="000000"/>
                        </a:solidFill>
                        <a:latin typeface="Arial"/>
                      </a:endParaRPr>
                    </a:p>
                    <a:p>
                      <a:pPr marL="716040">
                        <a:lnSpc>
                          <a:spcPct val="120000"/>
                        </a:lnSpc>
                        <a:spcBef>
                          <a:spcPts val="601"/>
                        </a:spcBef>
                        <a:tabLst>
                          <a:tab algn="l" pos="0"/>
                        </a:tabLst>
                      </a:pPr>
                      <a:r>
                        <a:rPr b="0" lang="el" sz="1800" spc="-1" strike="noStrike">
                          <a:solidFill>
                            <a:schemeClr val="dk1"/>
                          </a:solidFill>
                          <a:latin typeface="Arial"/>
                          <a:ea typeface="Arial"/>
                        </a:rPr>
                        <a:t>« </a:t>
                      </a:r>
                      <a:r>
                        <a:rPr b="0" i="1" lang="el" sz="1800" spc="-1" strike="noStrike">
                          <a:solidFill>
                            <a:schemeClr val="dk1"/>
                          </a:solidFill>
                          <a:latin typeface="Arial"/>
                          <a:ea typeface="Arial"/>
                        </a:rPr>
                        <a:t>Θέλω </a:t>
                      </a:r>
                      <a:r>
                        <a:rPr b="0" lang="el" sz="1800" spc="-1" strike="noStrike">
                          <a:solidFill>
                            <a:schemeClr val="dk1"/>
                          </a:solidFill>
                          <a:latin typeface="Arial"/>
                          <a:ea typeface="Arial"/>
                        </a:rPr>
                        <a:t>» (η αντωνυμία μπορεί να μην είναι κατάλληλη για τον συνδυασμό υποκειμένου-ρήματος)</a:t>
                      </a:r>
                      <a:endParaRPr b="0" lang="en-US" sz="1800" spc="-1" strike="noStrike">
                        <a:solidFill>
                          <a:srgbClr val="000000"/>
                        </a:solidFill>
                        <a:latin typeface="Arial"/>
                      </a:endParaRPr>
                    </a:p>
                    <a:p>
                      <a:pPr marL="716040">
                        <a:lnSpc>
                          <a:spcPct val="120000"/>
                        </a:lnSpc>
                        <a:spcBef>
                          <a:spcPts val="601"/>
                        </a:spcBef>
                        <a:tabLst>
                          <a:tab algn="l" pos="0"/>
                        </a:tabLst>
                      </a:pPr>
                      <a:r>
                        <a:rPr b="0" lang="el" sz="1800" spc="-1" strike="noStrike">
                          <a:solidFill>
                            <a:schemeClr val="dk1"/>
                          </a:solidFill>
                          <a:latin typeface="Arial"/>
                          <a:ea typeface="Arial"/>
                        </a:rPr>
                        <a:t>Ερωτήσεις δύο τμημάτων, εντολές</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r>
              <a:tr h="57528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2,6 ετών έως 3 ετώ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el" sz="1800" spc="-1" strike="noStrike">
                          <a:solidFill>
                            <a:schemeClr val="dk1"/>
                          </a:solidFill>
                          <a:latin typeface="Arial"/>
                          <a:ea typeface="Arial"/>
                        </a:rPr>
                        <a:t>Πρόταση τριών στοιχείω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el" sz="1800" spc="-1" strike="noStrike">
                          <a:solidFill>
                            <a:schemeClr val="dk1"/>
                          </a:solidFill>
                          <a:latin typeface="Arial"/>
                          <a:ea typeface="Arial"/>
                        </a:rPr>
                        <a:t>Δομή υποκειμένου-ρήμα-αντικειμένου/συμπληρώματος</a:t>
                      </a:r>
                      <a:endParaRPr b="0" lang="en-US" sz="1800" spc="-1" strike="noStrike">
                        <a:solidFill>
                          <a:srgbClr val="000000"/>
                        </a:solidFill>
                        <a:latin typeface="Arial"/>
                      </a:endParaRPr>
                    </a:p>
                    <a:p>
                      <a:pPr>
                        <a:lnSpc>
                          <a:spcPct val="120000"/>
                        </a:lnSpc>
                        <a:spcBef>
                          <a:spcPts val="601"/>
                        </a:spcBef>
                      </a:pPr>
                      <a:r>
                        <a:rPr b="0" lang="el" sz="1800" spc="-1" strike="noStrike">
                          <a:solidFill>
                            <a:schemeClr val="dk1"/>
                          </a:solidFill>
                          <a:latin typeface="Arial"/>
                          <a:ea typeface="Arial"/>
                        </a:rPr>
                        <a:t>Έναρξη κλιτικής μορφολογίας: παραγωγή λεκτικών, ονομαστικών και επιθέτων εγκλίσεων (π.χ. σημάδια γένους, πληθυντικού, χρόνου)</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71" name="PlaceHolder 1"/>
          <p:cNvSpPr>
            <a:spLocks noGrp="1"/>
          </p:cNvSpPr>
          <p:nvPr>
            <p:ph type="sldNum" idx="1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A7E6E56E-D791-45BE-8EBE-0EB8D31A5DF0}"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72"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73" name="PlaceHolder 2"/>
          <p:cNvSpPr>
            <a:spLocks noGrp="1"/>
          </p:cNvSpPr>
          <p:nvPr>
            <p:ph type="ftr" idx="17"/>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graphicFrame>
        <p:nvGraphicFramePr>
          <p:cNvPr id="174" name="Tableau 4"/>
          <p:cNvGraphicFramePr/>
          <p:nvPr/>
        </p:nvGraphicFramePr>
        <p:xfrm>
          <a:off x="436320" y="1560600"/>
          <a:ext cx="11318760" cy="4947840"/>
        </p:xfrm>
        <a:graphic>
          <a:graphicData uri="http://schemas.openxmlformats.org/drawingml/2006/table">
            <a:tbl>
              <a:tblPr/>
              <a:tblGrid>
                <a:gridCol w="1560600"/>
                <a:gridCol w="3357000"/>
                <a:gridCol w="6400800"/>
              </a:tblGrid>
              <a:tr h="494280">
                <a:tc>
                  <a:txBody>
                    <a:bodyPr lIns="38520" rIns="38520" tIns="0" bIns="0" anchor="t">
                      <a:noAutofit/>
                    </a:bodyPr>
                    <a:p>
                      <a:pPr algn="ctr">
                        <a:lnSpc>
                          <a:spcPct val="120000"/>
                        </a:lnSpc>
                        <a:spcBef>
                          <a:spcPts val="601"/>
                        </a:spcBef>
                        <a:spcAft>
                          <a:spcPts val="601"/>
                        </a:spcAft>
                      </a:pPr>
                      <a:r>
                        <a:rPr b="1" lang="el" sz="1800" spc="-1" strike="noStrike">
                          <a:solidFill>
                            <a:schemeClr val="lt1"/>
                          </a:solidFill>
                          <a:latin typeface="Arial"/>
                          <a:ea typeface="Arial"/>
                        </a:rPr>
                        <a:t>Ηλικία</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gn="ctr">
                        <a:lnSpc>
                          <a:spcPct val="120000"/>
                        </a:lnSpc>
                        <a:spcBef>
                          <a:spcPts val="601"/>
                        </a:spcBef>
                        <a:spcAft>
                          <a:spcPts val="601"/>
                        </a:spcAft>
                      </a:pPr>
                      <a:r>
                        <a:rPr b="1" lang="el" sz="1800" spc="-1" strike="noStrike">
                          <a:solidFill>
                            <a:schemeClr val="lt1"/>
                          </a:solidFill>
                          <a:latin typeface="Arial"/>
                          <a:ea typeface="Arial"/>
                        </a:rPr>
                        <a:t>Συντακτική πολυπλοκότητα</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nSpc>
                          <a:spcPct val="120000"/>
                        </a:lnSpc>
                        <a:spcBef>
                          <a:spcPts val="601"/>
                        </a:spcBef>
                        <a:spcAft>
                          <a:spcPts val="601"/>
                        </a:spcAft>
                      </a:pPr>
                      <a:r>
                        <a:rPr b="1" lang="el" sz="1800" spc="-1" strike="noStrike">
                          <a:solidFill>
                            <a:schemeClr val="lt1"/>
                          </a:solidFill>
                          <a:latin typeface="Arial"/>
                          <a:ea typeface="Arial"/>
                        </a:rPr>
                        <a:t>Περιγραφή</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7760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3 ετών έως 3, 6 ετώ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el" sz="1800" spc="-1" strike="noStrike">
                          <a:solidFill>
                            <a:schemeClr val="dk1"/>
                          </a:solidFill>
                          <a:latin typeface="Arial"/>
                          <a:ea typeface="Arial"/>
                        </a:rPr>
                        <a:t>Προτάσεις με 4 ή περισσότερα στοιχεία</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el" sz="1800" spc="-1" strike="noStrike">
                          <a:solidFill>
                            <a:schemeClr val="dk1"/>
                          </a:solidFill>
                          <a:latin typeface="Arial"/>
                          <a:ea typeface="Arial"/>
                        </a:rPr>
                        <a:t>Αυξημένη γνώση της καμπτικής μορφολογίας</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r h="87336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3,6 ετών έως 4 ετώ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el" sz="1800" spc="-1" strike="noStrike">
                          <a:solidFill>
                            <a:schemeClr val="dk1"/>
                          </a:solidFill>
                          <a:latin typeface="Arial"/>
                          <a:ea typeface="Arial"/>
                        </a:rPr>
                        <a:t>Προτάσεις με πολλές προτάσεις</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c>
                  <a:txBody>
                    <a:bodyPr lIns="38520" rIns="38520" tIns="0" bIns="0" anchor="t">
                      <a:noAutofit/>
                    </a:bodyPr>
                    <a:p>
                      <a:pPr>
                        <a:lnSpc>
                          <a:spcPct val="120000"/>
                        </a:lnSpc>
                        <a:spcBef>
                          <a:spcPts val="601"/>
                        </a:spcBef>
                      </a:pPr>
                      <a:r>
                        <a:rPr b="0" lang="el" sz="1800" spc="-1" strike="noStrike">
                          <a:solidFill>
                            <a:schemeClr val="dk1"/>
                          </a:solidFill>
                          <a:latin typeface="Arial"/>
                          <a:ea typeface="Arial"/>
                        </a:rPr>
                        <a:t>Συνδυασμός πολλών προτάσεων για την έκφραση σύνθετων σημασιών (συντονισμός, υποταγή κ.λπ.)</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r>
              <a:tr h="134568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4-5 ετών</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el" sz="1800" spc="-1" strike="noStrike">
                          <a:solidFill>
                            <a:schemeClr val="dk1"/>
                          </a:solidFill>
                          <a:latin typeface="Arial"/>
                          <a:ea typeface="Arial"/>
                        </a:rPr>
                        <a:t>Πολύπλοκη σύνταξη</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el" sz="1800" spc="-1" strike="noStrike">
                          <a:solidFill>
                            <a:schemeClr val="dk1"/>
                          </a:solidFill>
                          <a:latin typeface="Arial"/>
                          <a:ea typeface="Arial"/>
                        </a:rPr>
                        <a:t>Τα βασικά της γραμματικής έχουν αποκτηθεί</a:t>
                      </a:r>
                      <a:endParaRPr b="0" lang="en-US" sz="1800" spc="-1" strike="noStrike">
                        <a:solidFill>
                          <a:srgbClr val="000000"/>
                        </a:solidFill>
                        <a:latin typeface="Arial"/>
                      </a:endParaRPr>
                    </a:p>
                    <a:p>
                      <a:pPr>
                        <a:lnSpc>
                          <a:spcPct val="120000"/>
                        </a:lnSpc>
                        <a:spcBef>
                          <a:spcPts val="601"/>
                        </a:spcBef>
                      </a:pPr>
                      <a:r>
                        <a:rPr b="0" lang="el" sz="1800" spc="-1" strike="noStrike">
                          <a:solidFill>
                            <a:schemeClr val="dk1"/>
                          </a:solidFill>
                          <a:latin typeface="Arial"/>
                          <a:ea typeface="Arial"/>
                        </a:rPr>
                        <a:t>Ανάπτυξη του συστήματος αντωνυμίας, ποσοτικών και τροπικών ρημάτων</a:t>
                      </a:r>
                      <a:endParaRPr b="0" lang="en-US" sz="1800" spc="-1" strike="noStrike">
                        <a:solidFill>
                          <a:srgbClr val="000000"/>
                        </a:solidFill>
                        <a:latin typeface="Arial"/>
                      </a:endParaRPr>
                    </a:p>
                    <a:p>
                      <a:pPr>
                        <a:lnSpc>
                          <a:spcPct val="120000"/>
                        </a:lnSpc>
                        <a:spcBef>
                          <a:spcPts val="601"/>
                        </a:spcBef>
                      </a:pPr>
                      <a:r>
                        <a:rPr b="0" lang="el" sz="1800" spc="-1" strike="noStrike">
                          <a:solidFill>
                            <a:schemeClr val="dk1"/>
                          </a:solidFill>
                          <a:latin typeface="Arial"/>
                          <a:ea typeface="Arial"/>
                        </a:rPr>
                        <a:t>Ενδέχεται ακόμη να γίνονται λάθη με ακανόνιστες μορφές ρημάτων ή πληθυντικού, τη χρήση ορισμένων προσδιοριστικών κ.λπ.</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r h="807120">
                <a:tc>
                  <a:txBody>
                    <a:bodyPr lIns="38520" rIns="38520" tIns="0" bIns="0" anchor="t">
                      <a:noAutofit/>
                    </a:bodyPr>
                    <a:p>
                      <a:pPr algn="ctr">
                        <a:lnSpc>
                          <a:spcPct val="120000"/>
                        </a:lnSpc>
                        <a:spcBef>
                          <a:spcPts val="601"/>
                        </a:spcBef>
                      </a:pPr>
                      <a:r>
                        <a:rPr b="1" lang="el" sz="1800" spc="-1" strike="noStrike">
                          <a:solidFill>
                            <a:schemeClr val="lt1"/>
                          </a:solidFill>
                          <a:latin typeface="Arial"/>
                          <a:ea typeface="Arial"/>
                        </a:rPr>
                        <a:t>5 ετών-εφηβεία</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el" sz="1800" spc="-1" strike="noStrike">
                          <a:solidFill>
                            <a:schemeClr val="dk1"/>
                          </a:solidFill>
                          <a:latin typeface="Arial"/>
                          <a:ea typeface="Arial"/>
                        </a:rPr>
                        <a:t>Δόμηση λόγου</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c>
                  <a:txBody>
                    <a:bodyPr lIns="38520" rIns="38520" tIns="0" bIns="0" anchor="t">
                      <a:noAutofit/>
                    </a:bodyPr>
                    <a:p>
                      <a:pPr>
                        <a:lnSpc>
                          <a:spcPct val="120000"/>
                        </a:lnSpc>
                        <a:spcBef>
                          <a:spcPts val="601"/>
                        </a:spcBef>
                      </a:pPr>
                      <a:r>
                        <a:rPr b="0" lang="el" sz="1800" spc="-1" strike="noStrike">
                          <a:solidFill>
                            <a:schemeClr val="dk1"/>
                          </a:solidFill>
                          <a:latin typeface="Arial"/>
                          <a:ea typeface="Arial"/>
                        </a:rPr>
                        <a:t>Χρήση συνδετήρων, σύνθετες δομές, έλεγχος τονισμού</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76" name="PlaceHolder 1"/>
          <p:cNvSpPr>
            <a:spLocks noGrp="1"/>
          </p:cNvSpPr>
          <p:nvPr>
            <p:ph type="sldNum" idx="18"/>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32724380-5AB5-4063-911F-384A95D360A9}"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77"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78" name="PlaceHolder 2"/>
          <p:cNvSpPr>
            <a:spLocks noGrp="1"/>
          </p:cNvSpPr>
          <p:nvPr>
            <p:ph type="ftr" idx="19"/>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79" name="Rectangle 2"/>
          <p:cNvSpPr/>
          <p:nvPr/>
        </p:nvSpPr>
        <p:spPr>
          <a:xfrm>
            <a:off x="1753560" y="56916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el" sz="2400" spc="-1" strike="noStrike">
                <a:solidFill>
                  <a:schemeClr val="accent1"/>
                </a:solidFill>
                <a:latin typeface="Arial"/>
                <a:ea typeface="Arial"/>
              </a:rPr>
              <a:t>Ποια είναι η κατάσταση στο IDD;</a:t>
            </a:r>
            <a:endParaRPr b="0" lang="en-US" sz="2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2854860786"/>
              </p:ext>
            </p:extLst>
          </p:nvPr>
        </p:nvGraphicFramePr>
        <p:xfrm>
          <a:off x="545760" y="1530720"/>
          <a:ext cx="11272680" cy="471384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81" name="PlaceHolder 1"/>
          <p:cNvSpPr>
            <a:spLocks noGrp="1"/>
          </p:cNvSpPr>
          <p:nvPr>
            <p:ph type="sldNum" idx="20"/>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8E7565A6-9319-4677-B61F-BAE8E7D2AF6D}"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82"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83" name="PlaceHolder 2"/>
          <p:cNvSpPr>
            <a:spLocks noGrp="1"/>
          </p:cNvSpPr>
          <p:nvPr>
            <p:ph type="ftr" idx="21"/>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84" name="Rectangle 2"/>
          <p:cNvSpPr/>
          <p:nvPr/>
        </p:nvSpPr>
        <p:spPr>
          <a:xfrm>
            <a:off x="1753560" y="56916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el" sz="2400" spc="-1" strike="noStrike">
                <a:solidFill>
                  <a:schemeClr val="accent1"/>
                </a:solidFill>
                <a:latin typeface="Arial"/>
                <a:ea typeface="Arial"/>
              </a:rPr>
              <a:t>Κύρια χαρακτηριστικά παραγωγής</a:t>
            </a:r>
            <a:endParaRPr b="0" lang="en-US" sz="24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3633851884"/>
              </p:ext>
            </p:extLst>
          </p:nvPr>
        </p:nvGraphicFramePr>
        <p:xfrm>
          <a:off x="0" y="1454400"/>
          <a:ext cx="11918880" cy="470124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86" name="PlaceHolder 1"/>
          <p:cNvSpPr>
            <a:spLocks noGrp="1"/>
          </p:cNvSpPr>
          <p:nvPr>
            <p:ph type="sldNum" idx="22"/>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5B2AC30F-6FAE-4B45-BB14-70B598289207}"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pic>
        <p:nvPicPr>
          <p:cNvPr id="187"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88" name="PlaceHolder 2"/>
          <p:cNvSpPr>
            <a:spLocks noGrp="1"/>
          </p:cNvSpPr>
          <p:nvPr>
            <p:ph type="ftr" idx="23"/>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89" name="Rectangle 2"/>
          <p:cNvSpPr/>
          <p:nvPr/>
        </p:nvSpPr>
        <p:spPr>
          <a:xfrm>
            <a:off x="1753560" y="56916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el" sz="2400" spc="-1" strike="noStrike">
                <a:solidFill>
                  <a:schemeClr val="accent1"/>
                </a:solidFill>
                <a:latin typeface="Arial"/>
                <a:ea typeface="Arial"/>
              </a:rPr>
              <a:t>Κύρια χαρακτηριστικά κατανόησης</a:t>
            </a:r>
            <a:endParaRPr b="0" lang="en-US" sz="2400" spc="-1" strike="noStrike">
              <a:solidFill>
                <a:srgbClr val="000000"/>
              </a:solidFill>
              <a:latin typeface="Arial"/>
            </a:endParaRPr>
          </a:p>
        </p:txBody>
      </p:sp>
      <p:graphicFrame>
        <p:nvGraphicFramePr>
          <p:cNvPr id="190" name="Graphique 1"/>
          <p:cNvGraphicFramePr/>
          <p:nvPr/>
        </p:nvGraphicFramePr>
        <p:xfrm>
          <a:off x="873360" y="1454400"/>
          <a:ext cx="10699560" cy="4834440"/>
        </p:xfrm>
        <a:graphic>
          <a:graphicData uri="http://schemas.openxmlformats.org/drawingml/2006/chart">
            <c:chart xmlns:c="http://schemas.openxmlformats.org/drawingml/2006/chart" xmlns:r="http://schemas.openxmlformats.org/officeDocument/2006/relationships" r:id="rId3"/>
          </a:graphicData>
        </a:graphic>
      </p:graphicFrame>
      <p:sp>
        <p:nvSpPr>
          <p:cNvPr id="191" name="ZoneTexte 4"/>
          <p:cNvSpPr/>
          <p:nvPr/>
        </p:nvSpPr>
        <p:spPr>
          <a:xfrm>
            <a:off x="196200" y="6100560"/>
            <a:ext cx="34668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l" sz="1400" spc="-1" strike="noStrike">
                <a:solidFill>
                  <a:srgbClr val="000000"/>
                </a:solidFill>
                <a:latin typeface="Arial"/>
                <a:ea typeface="Arial"/>
              </a:rPr>
              <a:t>Προσαρμοσμένο από το Comblain (199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93" name="PlaceHolder 1"/>
          <p:cNvSpPr>
            <a:spLocks noGrp="1"/>
          </p:cNvSpPr>
          <p:nvPr>
            <p:ph type="sldNum" idx="24"/>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F13EF577-B7B6-4899-B055-37E357FD0900}"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pic>
        <p:nvPicPr>
          <p:cNvPr id="194"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95" name="Rectangle 20"/>
          <p:cNvSpPr/>
          <p:nvPr/>
        </p:nvSpPr>
        <p:spPr>
          <a:xfrm>
            <a:off x="1753560" y="470880"/>
            <a:ext cx="8258760" cy="6015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el" sz="2800" spc="-1" strike="noStrike">
                <a:solidFill>
                  <a:schemeClr val="accent1"/>
                </a:solidFill>
                <a:latin typeface="Arial"/>
                <a:ea typeface="Arial"/>
              </a:rPr>
              <a:t>Βιβλιογραφία</a:t>
            </a:r>
            <a:endParaRPr b="0" lang="en-US" sz="2800" spc="-1" strike="noStrike">
              <a:solidFill>
                <a:srgbClr val="000000"/>
              </a:solidFill>
              <a:latin typeface="Arial"/>
            </a:endParaRPr>
          </a:p>
        </p:txBody>
      </p:sp>
      <p:sp>
        <p:nvSpPr>
          <p:cNvPr id="196" name="PlaceHolder 2"/>
          <p:cNvSpPr>
            <a:spLocks noGrp="1"/>
          </p:cNvSpPr>
          <p:nvPr>
            <p:ph type="ftr" idx="25"/>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l" sz="1050" spc="-1" strike="noStrike">
                <a:solidFill>
                  <a:schemeClr val="dk2"/>
                </a:solidFill>
                <a:latin typeface="Arial"/>
                <a:ea typeface="Arial"/>
              </a:defRPr>
            </a:lvl1pPr>
          </a:lstStyle>
          <a:p>
            <a:pPr indent="0" algn="r">
              <a:lnSpc>
                <a:spcPct val="100000"/>
              </a:lnSpc>
              <a:buNone/>
              <a:tabLst>
                <a:tab algn="l" pos="0"/>
              </a:tabLst>
            </a:pPr>
            <a:r>
              <a:rPr b="0" lang="el"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97" name="ZoneTexte 2"/>
          <p:cNvSpPr/>
          <p:nvPr/>
        </p:nvSpPr>
        <p:spPr>
          <a:xfrm>
            <a:off x="698400" y="1657800"/>
            <a:ext cx="10794960" cy="420228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20000"/>
              </a:lnSpc>
              <a:spcBef>
                <a:spcPts val="601"/>
              </a:spcBef>
              <a:tabLst>
                <a:tab algn="l" pos="0"/>
              </a:tabLst>
            </a:pPr>
            <a:r>
              <a:rPr b="0" lang="el" sz="1400" spc="-1" strike="noStrike">
                <a:solidFill>
                  <a:srgbClr val="000000"/>
                </a:solidFill>
                <a:latin typeface="Arial"/>
                <a:ea typeface="Calibri"/>
              </a:rPr>
              <a:t>Ball, MJ, Crystal, D., &amp; Fletcher, P. (2012). </a:t>
            </a:r>
            <a:r>
              <a:rPr b="0" i="1" lang="el" sz="1400" spc="-1" strike="noStrike">
                <a:solidFill>
                  <a:srgbClr val="000000"/>
                </a:solidFill>
                <a:latin typeface="Arial"/>
                <a:ea typeface="Calibri"/>
              </a:rPr>
              <a:t>Αξιολόγηση Γραμματικής: Οι γλώσσες του LARSP </a:t>
            </a:r>
            <a:r>
              <a:rPr b="0" lang="el" sz="1400" spc="-1" strike="noStrike">
                <a:solidFill>
                  <a:srgbClr val="000000"/>
                </a:solidFill>
                <a:latin typeface="Arial"/>
                <a:ea typeface="Calibri"/>
              </a:rPr>
              <a:t>. Πολυγλωσσικά θέματα.</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Brown, R. (1973). Ανάπτυξη της πρώτης γλώσσας στο ανθρώπινο είδος. </a:t>
            </a:r>
            <a:r>
              <a:rPr b="0" i="1" lang="el" sz="1400" spc="-1" strike="noStrike">
                <a:solidFill>
                  <a:srgbClr val="000000"/>
                </a:solidFill>
                <a:latin typeface="Arial"/>
                <a:ea typeface="Calibri"/>
              </a:rPr>
              <a:t>American Psychologist </a:t>
            </a:r>
            <a:r>
              <a:rPr b="0" lang="el" sz="1400" spc="-1" strike="noStrike">
                <a:solidFill>
                  <a:srgbClr val="000000"/>
                </a:solidFill>
                <a:latin typeface="Arial"/>
                <a:ea typeface="Calibri"/>
              </a:rPr>
              <a:t>, </a:t>
            </a:r>
            <a:r>
              <a:rPr b="0" i="1" lang="el" sz="1400" spc="-1" strike="noStrike">
                <a:solidFill>
                  <a:srgbClr val="000000"/>
                </a:solidFill>
                <a:latin typeface="Arial"/>
                <a:ea typeface="Calibri"/>
              </a:rPr>
              <a:t>28 </a:t>
            </a:r>
            <a:r>
              <a:rPr b="0" lang="el" sz="1400" spc="-1" strike="noStrike">
                <a:solidFill>
                  <a:srgbClr val="000000"/>
                </a:solidFill>
                <a:latin typeface="Arial"/>
                <a:ea typeface="Calibri"/>
              </a:rPr>
              <a:t>(2), 97-106. https:// doi.org /10.1037/h0034209</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Chapman, RS, Hesketh, LJ, &amp; Kistler, DJ (2002). Πρόβλεψη διαχρονικής αλλαγής στην παραγωγή και κατανόηση της γλώσσας σε άτομα με σύνδρομο Down. </a:t>
            </a:r>
            <a:r>
              <a:rPr b="0" i="1" lang="el" sz="1400" spc="-1" strike="noStrike">
                <a:solidFill>
                  <a:srgbClr val="000000"/>
                </a:solidFill>
                <a:latin typeface="Arial"/>
                <a:ea typeface="Calibri"/>
              </a:rPr>
              <a:t>Journal of Speech, Language, and Hearing Research </a:t>
            </a:r>
            <a:r>
              <a:rPr b="0" lang="el" sz="1400" spc="-1" strike="noStrike">
                <a:solidFill>
                  <a:srgbClr val="000000"/>
                </a:solidFill>
                <a:latin typeface="Arial"/>
                <a:ea typeface="Calibri"/>
              </a:rPr>
              <a:t>, </a:t>
            </a:r>
            <a:r>
              <a:rPr b="0" i="1" lang="el" sz="1400" spc="-1" strike="noStrike">
                <a:solidFill>
                  <a:srgbClr val="000000"/>
                </a:solidFill>
                <a:latin typeface="Arial"/>
                <a:ea typeface="Calibri"/>
              </a:rPr>
              <a:t>45 </a:t>
            </a:r>
            <a:r>
              <a:rPr b="0" lang="el" sz="1400" spc="-1" strike="noStrike">
                <a:solidFill>
                  <a:srgbClr val="000000"/>
                </a:solidFill>
                <a:latin typeface="Arial"/>
                <a:ea typeface="Calibri"/>
              </a:rPr>
              <a:t>(5), 902-915. https:// doi.org /10.1044/1092-4388(2002/073)</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Comblain, Α. (1996). </a:t>
            </a:r>
            <a:r>
              <a:rPr b="0" i="1" lang="el" sz="1400" spc="-1" strike="noStrike">
                <a:solidFill>
                  <a:srgbClr val="000000"/>
                </a:solidFill>
                <a:latin typeface="Arial"/>
                <a:ea typeface="Calibri"/>
              </a:rPr>
              <a:t>Mémoire de travail et langage dans le syndrome de Down </a:t>
            </a:r>
            <a:r>
              <a:rPr b="0" lang="el" sz="1400" spc="-1" strike="noStrike">
                <a:solidFill>
                  <a:srgbClr val="000000"/>
                </a:solidFill>
                <a:latin typeface="Arial"/>
                <a:ea typeface="Calibri"/>
              </a:rPr>
              <a:t>[Διδακτορική Διατριβή ]. Πανεπιστήμιο της Λιέγης.</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Comblain, Α., &amp; Piérart , Β. (1998). </a:t>
            </a:r>
            <a:r>
              <a:rPr b="0" i="1" lang="el" sz="1400" spc="-1" strike="noStrike">
                <a:solidFill>
                  <a:srgbClr val="000000"/>
                </a:solidFill>
                <a:latin typeface="Arial"/>
                <a:ea typeface="Calibri"/>
              </a:rPr>
              <a:t>Syntaxe et métasyntaxe dans le syndrome de l'X-fragile et le syndrome de Down </a:t>
            </a:r>
            <a:r>
              <a:rPr b="0" lang="el" sz="1400" spc="-1" strike="noStrike">
                <a:solidFill>
                  <a:srgbClr val="000000"/>
                </a:solidFill>
                <a:latin typeface="Arial"/>
                <a:ea typeface="Calibri"/>
              </a:rPr>
              <a:t>.</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Comblain, A., &amp; Thibaut, J.-P. (2009). Νευροψυχολογική προσέγγιση του συνδρόμου Down. </a:t>
            </a:r>
            <a:r>
              <a:rPr b="0" i="1" lang="el" sz="1400" spc="-1" strike="noStrike">
                <a:solidFill>
                  <a:srgbClr val="000000"/>
                </a:solidFill>
                <a:latin typeface="Arial"/>
                <a:ea typeface="Calibri"/>
              </a:rPr>
              <a:t>Manuel de Neuropsychologie du développement </a:t>
            </a:r>
            <a:r>
              <a:rPr b="0" lang="el" sz="1400" spc="-1" strike="noStrike">
                <a:solidFill>
                  <a:srgbClr val="000000"/>
                </a:solidFill>
                <a:latin typeface="Arial"/>
                <a:ea typeface="Calibri"/>
              </a:rPr>
              <a:t>, </a:t>
            </a:r>
            <a:r>
              <a:rPr b="0" lang="el" sz="1400" spc="-1" strike="noStrike">
                <a:solidFill>
                  <a:srgbClr val="000000"/>
                </a:solidFill>
                <a:latin typeface="Arial"/>
                <a:ea typeface="Calibri"/>
              </a:rPr>
              <a:t>491-522 </a:t>
            </a:r>
            <a:r>
              <a:rPr b="0" lang="el" sz="1400" spc="-1" strike="noStrike">
                <a:solidFill>
                  <a:srgbClr val="000000"/>
                </a:solidFill>
                <a:latin typeface="Arial"/>
                <a:ea typeface="Calibri"/>
              </a:rPr>
              <a:t>.</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Comblain, A., &amp; Thibaut, J.-P. (2020). Σύνδρομο Le Down. Στο </a:t>
            </a:r>
            <a:r>
              <a:rPr b="0" i="1" lang="el" sz="1400" spc="-1" strike="noStrike">
                <a:solidFill>
                  <a:srgbClr val="000000"/>
                </a:solidFill>
                <a:latin typeface="Arial"/>
                <a:ea typeface="Calibri"/>
              </a:rPr>
              <a:t>Traité de Neuropsychologie de l'enfant </a:t>
            </a:r>
            <a:r>
              <a:rPr b="0" lang="el" sz="1400" spc="-1" strike="noStrike">
                <a:solidFill>
                  <a:srgbClr val="000000"/>
                </a:solidFill>
                <a:latin typeface="Arial"/>
                <a:ea typeface="Calibri"/>
              </a:rPr>
              <a:t>(σελ. 378 </a:t>
            </a:r>
            <a:r>
              <a:rPr b="0" lang="el" sz="1400" spc="-1" strike="noStrike">
                <a:solidFill>
                  <a:srgbClr val="000000"/>
                </a:solidFill>
                <a:latin typeface="Arial"/>
                <a:ea typeface="Calibri"/>
              </a:rPr>
              <a:t>‑ </a:t>
            </a:r>
            <a:r>
              <a:rPr b="0" lang="el" sz="1400" spc="-1" strike="noStrike">
                <a:solidFill>
                  <a:srgbClr val="000000"/>
                </a:solidFill>
                <a:latin typeface="Arial"/>
                <a:ea typeface="Calibri"/>
              </a:rPr>
              <a:t>400). De Boeck .</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l" sz="1400" spc="-1" strike="noStrike">
                <a:solidFill>
                  <a:srgbClr val="000000"/>
                </a:solidFill>
                <a:latin typeface="Arial"/>
                <a:ea typeface="Calibri"/>
              </a:rPr>
              <a:t>Martin, GE, Losh , M., Estigarribia , B., Sideris, J., &amp; Roberts, J. (2013). Διαχρονικά προφίλ εκφραστικού λεξιλογίου, σύνταξης και πραγματιστικής γλώσσας σε αγόρια με σύνδρομο εύθραυστου Χ ή σύνδρομο Down. </a:t>
            </a:r>
            <a:r>
              <a:rPr b="0" i="1" lang="el" sz="1400" spc="-1" strike="noStrike">
                <a:solidFill>
                  <a:srgbClr val="000000"/>
                </a:solidFill>
                <a:latin typeface="Arial"/>
                <a:ea typeface="Calibri"/>
              </a:rPr>
              <a:t>International Journal of Language &amp; Communication Disorders </a:t>
            </a:r>
            <a:r>
              <a:rPr b="0" lang="el" sz="1400" spc="-1" strike="noStrike">
                <a:solidFill>
                  <a:srgbClr val="000000"/>
                </a:solidFill>
                <a:latin typeface="Arial"/>
                <a:ea typeface="Calibri"/>
              </a:rPr>
              <a:t>, </a:t>
            </a:r>
            <a:r>
              <a:rPr b="0" i="1" lang="el" sz="1400" spc="-1" strike="noStrike">
                <a:solidFill>
                  <a:srgbClr val="000000"/>
                </a:solidFill>
                <a:latin typeface="Arial"/>
                <a:ea typeface="Calibri"/>
              </a:rPr>
              <a:t>48 </a:t>
            </a:r>
            <a:r>
              <a:rPr b="0" lang="el" sz="1400" spc="-1" strike="noStrike">
                <a:solidFill>
                  <a:srgbClr val="000000"/>
                </a:solidFill>
                <a:latin typeface="Arial"/>
                <a:ea typeface="Calibri"/>
              </a:rPr>
              <a:t>(4), 432 </a:t>
            </a:r>
            <a:r>
              <a:rPr b="0" lang="el" sz="1400" spc="-1" strike="noStrike">
                <a:solidFill>
                  <a:srgbClr val="000000"/>
                </a:solidFill>
                <a:latin typeface="Arial"/>
                <a:ea typeface="Calibri"/>
              </a:rPr>
              <a:t>‑ </a:t>
            </a:r>
            <a:r>
              <a:rPr b="0" lang="el" sz="1400" spc="-1" strike="noStrike">
                <a:solidFill>
                  <a:srgbClr val="000000"/>
                </a:solidFill>
                <a:latin typeface="Arial"/>
                <a:ea typeface="Calibri"/>
              </a:rPr>
              <a:t>443. https:// doi.org /10.1111/1460-6984.1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8733F4810AB72642817D07682898C628" ma:contentTypeVersion="18" ma:contentTypeDescription="Een nieuw document maken." ma:contentTypeScope="" ma:versionID="3992fb01526cbda13f49f51a62dc92db">
  <xsd:schema xmlns:xsd="http://www.w3.org/2001/XMLSchema" xmlns:xs="http://www.w3.org/2001/XMLSchema" xmlns:p="http://schemas.microsoft.com/office/2006/metadata/properties" xmlns:ns2="0b4e6542-4a28-464b-916a-ac287e1e15ef" xmlns:ns3="cae8c1b8-3cee-434b-8da9-32960356a7de" targetNamespace="http://schemas.microsoft.com/office/2006/metadata/properties" ma:root="true" ma:fieldsID="c797c75de5fd9ca9a9ddc44700314d01" ns2:_="" ns3:_="">
    <xsd:import namespace="0b4e6542-4a28-464b-916a-ac287e1e15ef"/>
    <xsd:import namespace="cae8c1b8-3cee-434b-8da9-32960356a7de"/>
    <xsd:element name="properties">
      <xsd:complexType>
        <xsd:sequence>
          <xsd:element name="documentManagement">
            <xsd:complexType>
              <xsd:all>
                <xsd:element ref="ns2:MediaServiceMetadata" minOccurs="0"/>
                <xsd:element ref="ns2:MediaServiceFastMetadata" minOccurs="0"/>
                <xsd:element ref="ns2:MediaServiceDateTaken" minOccurs="0"/>
                <xsd:element ref="ns2:MediaServiceAutoTags" minOccurs="0"/>
                <xsd:element ref="ns2:MediaServiceOCR" minOccurs="0"/>
                <xsd:element ref="ns2:MediaServiceGenerationTime" minOccurs="0"/>
                <xsd:element ref="ns2:MediaServiceEventHashCode" minOccurs="0"/>
                <xsd:element ref="ns2:MediaServiceAutoKeyPoints" minOccurs="0"/>
                <xsd:element ref="ns2:MediaServiceKeyPoints" minOccurs="0"/>
                <xsd:element ref="ns3:SharedWithUsers" minOccurs="0"/>
                <xsd:element ref="ns3:SharedWithDetails" minOccurs="0"/>
                <xsd:element ref="ns2:MediaServiceLocation" minOccurs="0"/>
                <xsd:element ref="ns2:MediaLengthInSeconds" minOccurs="0"/>
                <xsd:element ref="ns2:lcf76f155ced4ddcb4097134ff3c332f" minOccurs="0"/>
                <xsd:element ref="ns3:TaxCatchAll" minOccurs="0"/>
                <xsd:element ref="ns2:MediaServiceObjectDetectorVersions" minOccurs="0"/>
                <xsd:element ref="ns2:MediaServiceSearchPropertie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0b4e6542-4a28-464b-916a-ac287e1e15ef"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DateTaken" ma:index="10" nillable="true" ma:displayName="MediaServiceDateTaken" ma:hidden="true" ma:internalName="MediaServiceDateTaken" ma:readOnly="true">
      <xsd:simpleType>
        <xsd:restriction base="dms:Text"/>
      </xsd:simpleType>
    </xsd:element>
    <xsd:element name="MediaServiceAutoTags" ma:index="11" nillable="true" ma:displayName="Tags" ma:internalName="MediaServiceAutoTags" ma:readOnly="true">
      <xsd:simpleType>
        <xsd:restriction base="dms:Text"/>
      </xsd:simpleType>
    </xsd:element>
    <xsd:element name="MediaServiceOCR" ma:index="12" nillable="true" ma:displayName="Extracted Text" ma:internalName="MediaServiceOCR" ma:readOnly="true">
      <xsd:simpleType>
        <xsd:restriction base="dms:Note">
          <xsd:maxLength value="255"/>
        </xsd:restriction>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AutoKeyPoints" ma:index="15" nillable="true" ma:displayName="MediaServiceAutoKeyPoints" ma:hidden="true" ma:internalName="MediaServiceAutoKeyPoints" ma:readOnly="true">
      <xsd:simpleType>
        <xsd:restriction base="dms:Note"/>
      </xsd:simpleType>
    </xsd:element>
    <xsd:element name="MediaServiceKeyPoints" ma:index="16" nillable="true" ma:displayName="KeyPoints" ma:internalName="MediaServiceKeyPoints" ma:readOnly="true">
      <xsd:simpleType>
        <xsd:restriction base="dms:Note">
          <xsd:maxLength value="255"/>
        </xsd:restriction>
      </xsd:simpleType>
    </xsd:element>
    <xsd:element name="MediaServiceLocation" ma:index="19" nillable="true" ma:displayName="Location" ma:internalName="MediaServiceLocation" ma:readOnly="true">
      <xsd:simpleType>
        <xsd:restriction base="dms:Text"/>
      </xsd:simpleType>
    </xsd:element>
    <xsd:element name="MediaLengthInSeconds" ma:index="20" nillable="true" ma:displayName="Length (seconds)" ma:internalName="MediaLengthInSeconds" ma:readOnly="true">
      <xsd:simpleType>
        <xsd:restriction base="dms:Unknown"/>
      </xsd:simpleType>
    </xsd:element>
    <xsd:element name="lcf76f155ced4ddcb4097134ff3c332f" ma:index="22" nillable="true" ma:taxonomy="true" ma:internalName="lcf76f155ced4ddcb4097134ff3c332f" ma:taxonomyFieldName="MediaServiceImageTags" ma:displayName="Afbeeldingtags" ma:readOnly="false" ma:fieldId="{5cf76f15-5ced-4ddc-b409-7134ff3c332f}" ma:taxonomyMulti="true" ma:sspId="2f60ac6d-2d98-46b4-814c-7165044f02d5" ma:termSetId="09814cd3-568e-fe90-9814-8d621ff8fb84" ma:anchorId="fba54fb3-c3e1-fe81-a776-ca4b69148c4d" ma:open="true" ma:isKeyword="false">
      <xsd:complexType>
        <xsd:sequence>
          <xsd:element ref="pc:Terms" minOccurs="0" maxOccurs="1"/>
        </xsd:sequence>
      </xsd:complexType>
    </xsd:element>
    <xsd:element name="MediaServiceObjectDetectorVersions" ma:index="24" nillable="true" ma:displayName="MediaServiceObjectDetectorVersions" ma:description="" ma:hidden="true" ma:indexed="true" ma:internalName="MediaServiceObjectDetectorVersions" ma:readOnly="true">
      <xsd:simpleType>
        <xsd:restriction base="dms:Text"/>
      </xsd:simpleType>
    </xsd:element>
    <xsd:element name="MediaServiceSearchProperties" ma:index="25" nillable="true" ma:displayName="MediaServiceSearchProperties" ma:hidden="true" ma:internalName="MediaServiceSearchProperties" ma:readOnly="true">
      <xsd:simpleType>
        <xsd:restriction base="dms:Note"/>
      </xsd:simpleType>
    </xsd:element>
  </xsd:schema>
  <xsd:schema xmlns:xsd="http://www.w3.org/2001/XMLSchema" xmlns:xs="http://www.w3.org/2001/XMLSchema" xmlns:dms="http://schemas.microsoft.com/office/2006/documentManagement/types" xmlns:pc="http://schemas.microsoft.com/office/infopath/2007/PartnerControls" targetNamespace="cae8c1b8-3cee-434b-8da9-32960356a7de" elementFormDefault="qualified">
    <xsd:import namespace="http://schemas.microsoft.com/office/2006/documentManagement/types"/>
    <xsd:import namespace="http://schemas.microsoft.com/office/infopath/2007/PartnerControls"/>
    <xsd:element name="SharedWithUsers" ma:index="17" nillable="true" ma:displayName="Gedeeld met"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8" nillable="true" ma:displayName="Gedeeld met details" ma:internalName="SharedWithDetails" ma:readOnly="true">
      <xsd:simpleType>
        <xsd:restriction base="dms:Note">
          <xsd:maxLength value="255"/>
        </xsd:restriction>
      </xsd:simpleType>
    </xsd:element>
    <xsd:element name="TaxCatchAll" ma:index="23" nillable="true" ma:displayName="Taxonomy Catch All Column" ma:hidden="true" ma:list="{5d13aecc-10f9-435e-a0c0-6a8e69e4f875}" ma:internalName="TaxCatchAll" ma:showField="CatchAllData" ma:web="cae8c1b8-3cee-434b-8da9-32960356a7de">
      <xsd:complexType>
        <xsd:complexContent>
          <xsd:extension base="dms:MultiChoiceLookup">
            <xsd:sequence>
              <xsd:element name="Value" type="dms:Lookup" maxOccurs="unbounded" minOccurs="0" nillable="true"/>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Inhoudstype"/>
        <xsd:element ref="dc:title" minOccurs="0" maxOccurs="1" ma:index="4" ma:displayName="Titel"/>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865FE4DC-67D2-4A54-B3AE-669A7DD6D2AA}">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0b4e6542-4a28-464b-916a-ac287e1e15ef"/>
    <ds:schemaRef ds:uri="cae8c1b8-3cee-434b-8da9-32960356a7d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F6EE3F76-5F07-4A06-AB32-E189D240DE73}">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2094</Words>
  <Paragraphs>16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23T08:37:25Z</dcterms:created>
  <dc:creator>Kalianne  Farren [EASPD]</dc:creator>
  <dc:description/>
  <dc:language>en-US</dc:language>
  <cp:lastModifiedBy>Evangelia Andreadi</cp:lastModifiedBy>
  <dcterms:modified xsi:type="dcterms:W3CDTF">2024-12-06T11:16:59Z</dcterms:modified>
  <cp:revision>2</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733F4810AB72642817D07682898C628</vt:lpwstr>
  </property>
  <property fmtid="{D5CDD505-2E9C-101B-9397-08002B2CF9AE}" pid="3" name="MediaServiceImageTags">
    <vt:lpwstr/>
  </property>
  <property fmtid="{D5CDD505-2E9C-101B-9397-08002B2CF9AE}" pid="4" name="Notes">
    <vt:r8>10</vt:r8>
  </property>
  <property fmtid="{D5CDD505-2E9C-101B-9397-08002B2CF9AE}" pid="5" name="PresentationFormat">
    <vt:lpwstr>Ευρεία οθόνη</vt:lpwstr>
  </property>
  <property fmtid="{D5CDD505-2E9C-101B-9397-08002B2CF9AE}" pid="6" name="Slides">
    <vt:r8>10</vt:r8>
  </property>
</Properties>
</file>